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4EB6-9150-4011-B612-2587E2855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E445-1213-48E5-AAA2-60EB09076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C645-3BDD-479D-960A-425A20A454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475B-70B1-484A-8ABF-C64C71C28A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E5FB-EB02-4FC4-8CA7-089832DC4A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73B8-7DE8-4C36-892E-155D3BAFD3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C10A-BA30-499B-A7A0-7B1958F001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FD29-1AB0-418D-8E84-751ADA4FB6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D2C6B87-4A60-4725-B647-D81BB5A39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3EA7B5D-C0C0-4F60-8B05-CD79B4CBD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C604481-7A8F-4E93-A2F2-FCFDE7C67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5D72370-CDD7-4E02-8910-87A0B8898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05C3A0D-2507-4261-BB00-4A27063FAE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86D466B-FD8F-44B7-AC11-867541F80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DB8E295-8E3D-4C9F-A86E-F2C1A84D1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01BF6D8-AD5F-4BB8-9DBA-384646FEF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40428AE-5611-450C-BFD8-17E421A0D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9B7419E-A831-43EF-A949-6F69FB884B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FE84BB3-32E2-4355-AEFB-237131E91E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D82D426-7601-427B-9A7B-C7C6655E1B4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590D93E-9BE4-4F87-A12E-FC99BACE4E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001024-F873-409C-8983-FD46AEB33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13288F-17C2-4D4B-A7A5-AAAD8093C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4D4330-224F-4437-86B7-ADC5FBE26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9501F6-386B-4445-83E6-CCA201024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99A0F9-F881-4225-8335-E86FFE576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51F1E8-3317-4F2A-83E5-91A455BA4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AA3EBB-9C05-4D9B-8CA6-9288703F3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775B863-E1C9-41D2-AC73-3A3EABB3D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ED1A64-C0DB-49D9-91AD-A9BB2D6CD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F63D7D-52A7-4CDC-BE88-31A02BCE4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FB0F7B-587C-4622-8C7A-742ADD2E7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FE02A7-0AA8-4525-972E-1C2EA6718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200386-E056-4A48-AD14-BA31C6206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D41303-E1D2-4155-AF1C-5063F448AD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BE6AE-07A3-45D8-A87C-562263EFC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4FBE0-DD34-40C7-AB66-170BB2640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41ABE-8A67-4FC2-88F7-E66E1DEAE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864F5-E963-4B0F-A25E-ECE1CDE74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F1FFC8F-0654-4850-8148-DFE787958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B9ACC-CF56-4544-B6FC-595ADE5B8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EF402-C7F8-4640-9990-548C30E26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D3707-D2E9-4E26-B4E4-11267B7FA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7BCC5-0169-4DED-8ADF-AD2189BBB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F51DCF-8F22-4A93-9026-4E6EDB641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73325-ADCE-4734-869F-09A252696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727660-A777-4188-BFF2-3D5589081E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872B97-73A0-4376-BD8D-C5952FDC8F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82D2BF-EA27-40F7-B5B6-FF4ED25BC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497C22B-8E54-4CBF-A801-F15D56822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0476A9E-82A8-4998-9CA6-52C5CD154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246EBF-B6C0-4AF5-B3F8-09BA046A3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7D3ADE-85F9-48A0-9220-071839017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B43410-5F05-4DAB-B5DD-C005C6147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98C75C-B4A3-4320-8748-76805F298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F4587C-C381-4FE8-BD00-403C1198D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120566-346C-4A0B-9CE6-154B0EC03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AE7847-E759-48FF-B92F-9C4BF64C5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A919911-9B10-4264-A45B-07DB68435B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994CFA-30D0-4D3C-820E-1CD6C808D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29544E-E235-4646-9BD4-6E53450A6C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80CFF7B-1AA4-48C1-80F2-0F66DA92F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FE8D46-6166-43EF-B84F-7FE1AA9ECB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EF5D2-B5B3-4C40-A282-6D515208A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78178-5E8F-4CD2-9BFB-458C349AE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01C1A-8A26-4302-975D-C8E557814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F3D2A-F0A9-48D3-805A-2577B304B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8FB3F-9229-4A22-B7C4-285172B8D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DA96D-487C-49A6-BFB3-F80DEAC75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A9E43-4B4F-4536-9C06-EBCB16FEE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63C25-3A44-4EFF-9ABC-AFC4BA1E1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91899B-D4AE-4CE6-B991-BDCBDF1EE1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0C7060B-E663-4E35-A327-1E429AE6D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B6A2D2-7630-4535-AFA7-BB143AC69E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48073A-29BD-48C9-8937-A4A8C3451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346E9-871E-4BDE-A3AC-C085A282C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3C823-1105-4466-ABF8-B775CD7082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A684F7-700F-4084-864D-B3475F522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6F1692-EE24-4012-BE34-4C206E38E9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E823D6-8FAC-4300-BC23-85C1FC2AC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17037-4D08-4529-A0A9-41473723A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4A586-C5B5-415D-95EA-02D78B39D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D9B32-F4DA-419C-9D71-D63FA2E8A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E77F977-4A54-4CB9-B627-94C132BCF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FE4A9-7351-41BA-8A3F-9F36C9DE54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CD4F55-F9A4-42AE-92C3-DD53025BC6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7E7A8C-34D5-4C85-AA93-8C06138570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66B7E4-78B5-4D26-A221-1D7E2E993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2C9BE-0803-4859-9795-2026717CE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D7A97-6EEE-4DAF-9079-888271801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50EEDB-84FA-404D-99F7-D8A1FE66C2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2479D-78E4-4EF7-950E-B2CE91FDF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B9E06-7D79-4464-81F0-8B8FAE429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207B9-84BA-40AA-AA9E-C06BF003F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35B6C63-1A73-479D-ABC3-430010EB9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E1FAA-3089-4629-979D-7F1D85F4E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92CD1-8485-45DA-91CF-C5E25DE07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DBF7E-A649-454C-96E6-4B9C9464C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BC87FB-B57A-4D1D-B07F-3D1A02CF03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A25F94-4F51-4DA1-B738-70E6CCBDB3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576D962-06CA-4415-BB71-A82755B263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CC0A20A-FCFB-41D8-A3D4-130805468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75D93E7-046D-454A-967A-E66B62B8FA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C6357C5-CC2A-4AF6-86D3-1654B9D3F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0D1E50E-1520-4547-9626-6987B620E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18CF688-AAEB-4C67-AADB-F60BDB1C16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072AF98-BCAC-471C-9D7C-0DD853BB4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F47FF6D-E8F4-423C-A938-FE2329137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2194653-CFFD-4387-8217-6A2F2462B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47D7CBE-F6AE-4C0D-8B50-2C09CF5A2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717938E-F34D-4192-B333-8B65E373B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43DE41F-CD9B-4C0B-BB00-B2A7B19904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AFB7E36-8A2F-4647-98A8-5DA4F69207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08E8D7B-7583-405B-AC47-5925C0C86F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92FD148-0294-472A-BF25-45165C3900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998B326-2146-461D-AAEF-E74E8E30AD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3FAD-7EFD-4987-BEAC-09CA29F1F613}"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DC8F-44E6-4370-A18F-79745182F5BD}"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63BE-B331-433A-A451-6D1B86586B2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DDB5-A952-4F3C-B81C-D56EBF046A5F}"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ADDF-5F95-4CAF-81F1-5F027CE9CE6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A3FD-11C4-42AD-8DDC-9A3608E0CA1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6677-AEA9-4BF5-BCC2-C7B7E5805EB4}"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1B91-74B7-4DF2-85FB-C432FAFB6A0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194A-8C56-4A1D-B663-87DE3494FD11}"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82520" y="378000"/>
            <a:ext cx="8772480" cy="22320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L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158760" y="249120"/>
            <a:ext cx="8783640" cy="11588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Alfabetismo funcional</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Calidad de la educación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Simple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Rápida</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49120"/>
            <a:ext cx="854100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fontScale="96000"/>
          </a:bodyPr>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ínea base y evaluación </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Ambientes de aprendizaje estructurado</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otra herramienta </a:t>
            </a:r>
            <a:endParaRPr b="0" lang="en-US" sz="40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a los responsables</a:t>
            </a:r>
            <a:endParaRPr b="0" lang="en-US" sz="32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del comportamiento sano de los jóvenes </a:t>
            </a:r>
            <a:endParaRPr b="0" lang="en-US" sz="32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niños(as) posprimaria</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etras</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alabras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árrafo</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Historia y comprensión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Material local y comprensión</a:t>
            </a: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AutoShape 10"/>
          <p:cNvSpPr/>
          <p:nvPr/>
        </p:nvSpPr>
        <p:spPr>
          <a:xfrm>
            <a:off x="1295280" y="12952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ste es un mono grand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l vive en un árbol.</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gusta brinc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también le gustan los plátanos.</a:t>
            </a:r>
            <a:endParaRPr b="0" lang="en-US" sz="2200" spc="-1" strike="noStrike">
              <a:solidFill>
                <a:srgbClr val="ffffff"/>
              </a:solidFill>
              <a:latin typeface="Arial"/>
            </a:endParaRPr>
          </a:p>
        </p:txBody>
      </p:sp>
      <p:sp>
        <p:nvSpPr>
          <p:cNvPr id="411" name="AutoShape 9"/>
          <p:cNvSpPr/>
          <p:nvPr/>
        </p:nvSpPr>
        <p:spPr>
          <a:xfrm>
            <a:off x="1371600" y="40384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tiene seis años de edad.</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encanta estudi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También le gusta jug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va a la escuela.</a:t>
            </a:r>
            <a:endParaRPr b="0" lang="en-US" sz="2200" spc="-1" strike="noStrike">
              <a:solidFill>
                <a:srgbClr val="ffffff"/>
              </a:solidFill>
              <a:latin typeface="Arial"/>
            </a:endParaRPr>
          </a:p>
        </p:txBody>
      </p:sp>
      <p:sp>
        <p:nvSpPr>
          <p:cNvPr id="412" name="AutoShape 8"/>
          <p:cNvSpPr/>
          <p:nvPr/>
        </p:nvSpPr>
        <p:spPr>
          <a:xfrm>
            <a:off x="5410080" y="1295280"/>
            <a:ext cx="3040200" cy="443412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Había un gran árbol de pie en un jardín. Estaba solo y se sentía solo. Un día un pájaro vino y se sentó sobre él. El pájaro tenía una semilla en su pico. Dejó caer la semilla cerca del árbol. Una planta pequeña creció ahí. Pronto había muchos más árboles. El árbol grande estaba feliz.</a:t>
            </a:r>
            <a:endParaRPr b="0" lang="en-US" sz="2000" spc="-1" strike="noStrike">
              <a:solidFill>
                <a:srgbClr val="ffffff"/>
              </a:solidFill>
              <a:latin typeface="Arial"/>
            </a:endParaRPr>
          </a:p>
        </p:txBody>
      </p:sp>
      <p:sp>
        <p:nvSpPr>
          <p:cNvPr id="413" name="Text Box 7"/>
          <p:cNvSpPr/>
          <p:nvPr/>
        </p:nvSpPr>
        <p:spPr>
          <a:xfrm>
            <a:off x="1676520" y="1066680"/>
            <a:ext cx="8046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4" name="Text Box 6"/>
          <p:cNvSpPr/>
          <p:nvPr/>
        </p:nvSpPr>
        <p:spPr>
          <a:xfrm>
            <a:off x="1752480" y="3809880"/>
            <a:ext cx="9144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5" name="Text Box 5"/>
          <p:cNvSpPr/>
          <p:nvPr/>
        </p:nvSpPr>
        <p:spPr>
          <a:xfrm>
            <a:off x="7086600" y="1066680"/>
            <a:ext cx="932040" cy="35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Historia</a:t>
            </a:r>
            <a:endParaRPr b="0" lang="en-US" sz="1100" spc="-1" strike="noStrike">
              <a:solidFill>
                <a:srgbClr val="ffffff"/>
              </a:solidFill>
              <a:latin typeface="Arial"/>
            </a:endParaRPr>
          </a:p>
        </p:txBody>
      </p:sp>
      <p:sp>
        <p:nvSpPr>
          <p:cNvPr id="416" name="Text Box 4"/>
          <p:cNvSpPr/>
          <p:nvPr/>
        </p:nvSpPr>
        <p:spPr>
          <a:xfrm>
            <a:off x="609480" y="1828800"/>
            <a:ext cx="381240" cy="31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Muestra - I</a:t>
            </a:r>
            <a:endParaRPr b="0" lang="en-US" sz="1400" spc="-1" strike="noStrike">
              <a:solidFill>
                <a:srgbClr val="ffffff"/>
              </a:solidFill>
              <a:latin typeface="Arial"/>
            </a:endParaRPr>
          </a:p>
        </p:txBody>
      </p:sp>
      <p:sp>
        <p:nvSpPr>
          <p:cNvPr id="417" name="Rectangle 19"/>
          <p:cNvSpPr/>
          <p:nvPr/>
        </p:nvSpPr>
        <p:spPr>
          <a:xfrm>
            <a:off x="762120" y="381240"/>
            <a:ext cx="51814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ídale al niño o niña que escoja un párrafo para le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AutoShape 5"/>
          <p:cNvSpPr/>
          <p:nvPr/>
        </p:nvSpPr>
        <p:spPr>
          <a:xfrm>
            <a:off x="533520" y="914400"/>
            <a:ext cx="3124080" cy="41781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t>
            </a:r>
            <a:r>
              <a:rPr b="1" lang="es-ES" sz="4000" spc="-1" strike="noStrike">
                <a:solidFill>
                  <a:srgbClr val="000000"/>
                </a:solidFill>
                <a:latin typeface="Calibri"/>
              </a:rPr>
              <a:t>	</a:t>
            </a:r>
            <a:r>
              <a:rPr b="1" lang="es-ES" sz="4000" spc="-1" strike="noStrike">
                <a:solidFill>
                  <a:srgbClr val="000000"/>
                </a:solidFill>
                <a:latin typeface="Calibri"/>
              </a:rPr>
              <a:t>t</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z</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f</a:t>
            </a:r>
            <a:r>
              <a:rPr b="1" lang="es-ES" sz="4000" spc="-1" strike="noStrike">
                <a:solidFill>
                  <a:srgbClr val="000000"/>
                </a:solidFill>
                <a:latin typeface="Calibri"/>
              </a:rPr>
              <a:t>	</a:t>
            </a:r>
            <a:r>
              <a:rPr b="1" lang="es-ES" sz="4000" spc="-1" strike="noStrike">
                <a:solidFill>
                  <a:srgbClr val="000000"/>
                </a:solidFill>
                <a:latin typeface="Calibri"/>
              </a:rPr>
              <a:t>k</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a</a:t>
            </a:r>
            <a:r>
              <a:rPr b="1" lang="es-ES" sz="4000" spc="-1" strike="noStrike">
                <a:solidFill>
                  <a:srgbClr val="000000"/>
                </a:solidFill>
                <a:latin typeface="Calibri"/>
              </a:rPr>
              <a:t>	</a:t>
            </a:r>
            <a:r>
              <a:rPr b="1" lang="es-ES" sz="4000" spc="-1" strike="noStrike">
                <a:solidFill>
                  <a:srgbClr val="000000"/>
                </a:solidFill>
                <a:latin typeface="Calibri"/>
              </a:rPr>
              <a:t>r</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v</a:t>
            </a:r>
            <a:r>
              <a:rPr b="1" lang="es-ES" sz="4000" spc="-1" strike="noStrike">
                <a:solidFill>
                  <a:srgbClr val="000000"/>
                </a:solidFill>
                <a:latin typeface="Calibri"/>
              </a:rPr>
              <a:t>	</a:t>
            </a:r>
            <a:r>
              <a:rPr b="1" lang="es-ES" sz="4000" spc="-1" strike="noStrike">
                <a:solidFill>
                  <a:srgbClr val="000000"/>
                </a:solidFill>
                <a:latin typeface="Calibri"/>
              </a:rPr>
              <a:t>p</a:t>
            </a:r>
            <a:endParaRPr b="0" lang="en-US" sz="4000" spc="-1" strike="noStrike">
              <a:solidFill>
                <a:srgbClr val="ffffff"/>
              </a:solidFill>
              <a:latin typeface="Arial"/>
            </a:endParaRPr>
          </a:p>
        </p:txBody>
      </p:sp>
      <p:sp>
        <p:nvSpPr>
          <p:cNvPr id="419" name="AutoShape 8"/>
          <p:cNvSpPr/>
          <p:nvPr/>
        </p:nvSpPr>
        <p:spPr>
          <a:xfrm>
            <a:off x="4419720" y="914400"/>
            <a:ext cx="4038480" cy="42735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mbos</a:t>
            </a:r>
            <a:r>
              <a:rPr b="1" lang="es-ES" sz="3200" spc="-1" strike="noStrike">
                <a:solidFill>
                  <a:srgbClr val="000000"/>
                </a:solidFill>
                <a:latin typeface="Calibri"/>
              </a:rPr>
              <a:t>	</a:t>
            </a:r>
            <a:r>
              <a:rPr b="1" lang="es-ES" sz="3200" spc="-1" strike="noStrike">
                <a:solidFill>
                  <a:srgbClr val="000000"/>
                </a:solidFill>
                <a:latin typeface="Calibri"/>
              </a:rPr>
              <a:t>pas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taz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fuera</a:t>
            </a:r>
            <a:r>
              <a:rPr b="1" lang="es-ES" sz="3200" spc="-1" strike="noStrike">
                <a:solidFill>
                  <a:srgbClr val="000000"/>
                </a:solidFill>
                <a:latin typeface="Calibri"/>
              </a:rPr>
              <a:t>	</a:t>
            </a:r>
            <a:r>
              <a:rPr b="1" lang="es-ES" sz="3200" spc="-1" strike="noStrike">
                <a:solidFill>
                  <a:srgbClr val="000000"/>
                </a:solidFill>
                <a:latin typeface="Calibri"/>
              </a:rPr>
              <a:t>cuerd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erro</a:t>
            </a:r>
            <a:r>
              <a:rPr b="1" lang="es-ES" sz="3200" spc="-1" strike="noStrike">
                <a:solidFill>
                  <a:srgbClr val="000000"/>
                </a:solidFill>
                <a:latin typeface="Calibri"/>
              </a:rPr>
              <a:t>	</a:t>
            </a:r>
            <a:r>
              <a:rPr b="1" lang="es-ES" sz="3200" spc="-1" strike="noStrike">
                <a:solidFill>
                  <a:srgbClr val="000000"/>
                </a:solidFill>
                <a:latin typeface="Calibri"/>
              </a:rPr>
              <a:t>sombrer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llave</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eseo</a:t>
            </a:r>
            <a:r>
              <a:rPr b="1" lang="es-ES" sz="3200" spc="-1" strike="noStrike">
                <a:solidFill>
                  <a:srgbClr val="000000"/>
                </a:solidFill>
                <a:latin typeface="Calibri"/>
              </a:rPr>
              <a:t>	</a:t>
            </a:r>
            <a:r>
              <a:rPr b="1" lang="es-ES" sz="3200" spc="-1" strike="noStrike">
                <a:solidFill>
                  <a:srgbClr val="000000"/>
                </a:solidFill>
                <a:latin typeface="Calibri"/>
              </a:rPr>
              <a:t>muñeca</a:t>
            </a:r>
            <a:endParaRPr b="0" lang="en-US" sz="3200" spc="-1" strike="noStrike">
              <a:solidFill>
                <a:srgbClr val="ffffff"/>
              </a:solidFill>
              <a:latin typeface="Arial"/>
            </a:endParaRPr>
          </a:p>
        </p:txBody>
      </p:sp>
      <p:sp>
        <p:nvSpPr>
          <p:cNvPr id="420" name="Text Box 4"/>
          <p:cNvSpPr/>
          <p:nvPr/>
        </p:nvSpPr>
        <p:spPr>
          <a:xfrm>
            <a:off x="990720" y="609480"/>
            <a:ext cx="9903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etra</a:t>
            </a:r>
            <a:endParaRPr b="0" lang="en-US" sz="1800" spc="-1" strike="noStrike">
              <a:solidFill>
                <a:srgbClr val="ffffff"/>
              </a:solidFill>
              <a:latin typeface="Arial"/>
            </a:endParaRPr>
          </a:p>
        </p:txBody>
      </p:sp>
      <p:sp>
        <p:nvSpPr>
          <p:cNvPr id="421" name="Text Box 7"/>
          <p:cNvSpPr/>
          <p:nvPr/>
        </p:nvSpPr>
        <p:spPr>
          <a:xfrm>
            <a:off x="7086600" y="685800"/>
            <a:ext cx="110808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labra</a:t>
            </a:r>
            <a:endParaRPr b="0" lang="en-US" sz="1800" spc="-1" strike="noStrike">
              <a:solidFill>
                <a:srgbClr val="ffffff"/>
              </a:solidFill>
              <a:latin typeface="Arial"/>
            </a:endParaRPr>
          </a:p>
        </p:txBody>
      </p:sp>
      <p:sp>
        <p:nvSpPr>
          <p:cNvPr id="422" name="Text Box 3"/>
          <p:cNvSpPr/>
          <p:nvPr/>
        </p:nvSpPr>
        <p:spPr>
          <a:xfrm>
            <a:off x="685800" y="5410080"/>
            <a:ext cx="34290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
        <p:nvSpPr>
          <p:cNvPr id="423"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5"/>
          <p:cNvSpPr/>
          <p:nvPr/>
        </p:nvSpPr>
        <p:spPr>
          <a:xfrm>
            <a:off x="0" y="2728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3"/>
          <p:cNvSpPr/>
          <p:nvPr/>
        </p:nvSpPr>
        <p:spPr>
          <a:xfrm>
            <a:off x="4648320" y="5410080"/>
            <a:ext cx="380988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249120"/>
            <a:ext cx="8541000" cy="116532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l periódic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olleto informativ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 revista</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Incorpore 3 preguntas de comprensió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Éste es el ‘alfabetismo funcional’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08:09:10Z</dcterms:created>
  <dc:creator>Isabelle Carboni</dc:creator>
  <dc:description/>
  <dc:language>en-US</dc:language>
  <cp:lastModifiedBy> </cp:lastModifiedBy>
  <dcterms:modified xsi:type="dcterms:W3CDTF">2012-12-18T19:19:19Z</dcterms:modified>
  <cp:revision>20</cp:revision>
  <dc:subject/>
  <dc:title>Functional Literacy Assessment Tool</dc:title>
</cp:coreProperties>
</file>