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move the slide</a:t>
            </a:r>
            <a:endParaRPr b="0" lang="en-US" sz="4600" spc="-1" strike="noStrike">
              <a:solidFill>
                <a:srgbClr val="e7eacb"/>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CB1D-38AC-451A-B016-CFCC37F3B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988C-E9DC-4826-A928-9F2E4BA979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1528-C07B-49AA-A264-8EAB73565C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5B1C-E9D4-48FD-89B1-5977D31DEA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D2BF-958C-46D0-9EF7-C7CECBA010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FC05-E051-450F-8686-76F3271EAD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0456-5AB0-47D3-A4AA-B94E8B6C43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C12D-4E26-4C1C-9722-80B6CEDD18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92A585E-E1FA-45E0-A577-993490F5D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711DB9A-7D82-4FB1-B142-B32A54BCB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B5CCFBC-2B23-4E5A-A4D0-774F9ACCB6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F3D735F-ED2D-4E45-AC50-C3496AFB11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74A4588-4DE7-4E97-AD64-71F6F0FC62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980BDA6-B8C2-4D67-BA5E-400FE1EA47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28B827C-E633-4D4B-B051-B4A7CA2F3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56D8B5F-7E05-4A53-BEFE-51A2FFB18B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971CF52-21CE-4F39-97C8-44CE78994C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AC1FD34-C37F-4157-9433-22091CB24B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A901126B-DD9A-466E-9C0A-BD45365067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9B36F02-8127-413F-B6DC-A09BE79CE8A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6CAC536-1928-45CC-AB51-EB7B16D853C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5149D56-162A-41B2-B0B6-346AE5372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A3209BE-F7AE-40A0-9C7F-AEBF7F858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2C0183-7F37-49B7-A71A-E8148FC85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CD7A1CD-276F-41C0-AA93-D7B250F7B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4E69E1-8F69-49BA-B9E3-9735A3BB9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551918-7F26-439B-892E-0F1000D38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D59C2E-CB3C-4963-9F68-D8F147615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76AD71A-9B6F-4750-9063-2FBEC0B04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523209-5DC9-4B0E-A856-BB5E49EAB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5E9CF3-1DEB-4EE7-966D-F7D114A44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32CDD61-91B6-483E-9EB0-39C191B2D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C98B31D-839A-4921-84E3-43098DC93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1E077C7-DC61-43E2-8971-879D243E4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9BD0A0-055B-47D0-872A-7F90359A19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109507-0669-4A71-BC99-69412FE35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375864-A8BA-4015-9A30-55FDE04C9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3C8754-A5C1-43AE-83E3-625C8D929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21BFC9-5CD1-4E26-A360-C46A8206C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97ADE9A-5BA4-4519-8130-5548595380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55C7D2-7E81-44E8-875B-53526E154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F9E50-15D8-4D05-A323-EE0F2483F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C1335-5C6F-406F-9FE8-7E7463002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97A2A-3D84-4121-AB05-3A1CA622F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5EEF87-D82C-4C8C-B368-3E365F619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4BDEFD-DD84-4A93-8DC7-1C78A580E5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85C74F-0BE4-49CE-BC91-EEA36A0783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4657947-A932-4DF2-86F5-0644699CEC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0D1EB9C-3099-4D02-84A3-32DA61B32F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FC2983B-18BF-4B12-96C5-2CE28C74F9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1488A02-4C64-45F6-B2D4-1B012DF8C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91F7CAF-8481-476A-90F8-84D78AE00E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9A6C074-A81A-4521-AA2F-B71EE326E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D65C562-96B3-4EFC-AFCA-F8AF1F3A1A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FBA4A3-A54C-4AF7-ACEF-C11486F264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E5E274-05C9-4A86-800C-CE0143C2E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0C717DD-9144-419E-B28A-F9910398CB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FD08D19-D234-43AF-8EEB-B9604B5806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B2111C2-E63A-4B81-88BD-44D22DA404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2EE0A96-8E97-4CE4-99E4-DE4AD78199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777FDA-8AE0-4927-9C8D-1DF0EC7E5B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22E6711-6DF6-4314-8F03-816DDBF608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026344-908B-4CD4-A5EE-C0BE6D5E80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3932B1-643A-40F8-9A79-2964AA6271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F4ABAB-1000-4D16-BA90-428CB14AC1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7A8F5A-F632-46D3-8FA5-B14D6FBF47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92EB18-DDD4-4AC4-94CC-E9FC1F3C3A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D6BA2-A7DA-4DAE-9074-3A7FCD1A72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1FB13-283D-4700-9D95-7C6518372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C1FE6-69CE-42E8-B6C8-05762D5AF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BBEE3B-F0A6-4134-B9F4-9E791980A5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50F432-8725-40A9-85BA-B83ECF2303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65BC065-FC4C-4F38-97B0-3EF6D7D23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0EE582-6F80-4704-BB76-0A64FB0510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F15B13-A29C-4ABE-837E-7E606D591E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3B631D-9B96-46AB-8474-7F012AC1A1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E551BD-E36A-454B-A7D2-1D2BC01EDA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0EBC33-4309-4F52-8CBB-4C877E6A05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CF4AED-C047-428D-AFA6-C6873AD2D5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CE7ADF-BE22-4B12-9B18-DF10B7AD05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CB2551-4E69-4D7D-8E48-CEC7C03E74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98663B-1D85-472F-AE30-3E85BCF87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8323C8-4D1B-4A0A-B0E2-712C607B2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5F262EA-FFDF-4182-8A39-03E50B9A37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1C93F3-0B14-43C6-85A1-6C4FCD61E6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1A8AD1-E2C2-4D28-B701-D5F5BB8175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8D48FB-B344-44FC-8024-A878A4B13D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704704-D833-4D42-B925-6F9A2BAE92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370C5D-4807-41BD-B802-0E87BE6D76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08CEAB-E197-4974-89A4-58057C04D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49B350-B0FC-4148-A4CB-87C95A1B44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D909D8-B62D-44F8-99B4-2DE4067C70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B0D46D-1763-4FA2-BB37-A821CE2378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E4459-C344-49B2-887A-07DA1F494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F75ACE1-8D93-496B-B7DC-5D47DF0AC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00D8C-140E-4BA8-B825-A3EFD09C98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699FE9-E9D6-4F7A-835E-95E099ABCE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54C138-470F-4E57-B612-6A8CE414F2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321CF3-0580-4731-86D3-3873A66864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149203-2A70-43F0-801E-4408B80DEA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0EF57F90-6DA2-4AEB-A60D-2B8E3E9887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F97E1C6-1585-40EB-83B2-8E0108F6D0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144E497-EE88-42C6-B40D-BA06D2A191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797AE4D-6F3B-4E81-9896-A77E6E6DE8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8C536EC-86E0-48FE-A683-0E85E39416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32774E5-3E61-4E69-A4AB-7D35EF07F7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59350B1-AE0A-453D-8D06-B3EDC515F8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8F02CB3-29F1-44E7-8E23-F5FF578C42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0722485-D390-4CC3-B17E-691FCF45F5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0A53359-7409-403F-B4C9-B7DACFFA7C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0E65DB9-0BBD-46A5-86D1-8440F31D70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8A71971-B241-4A05-9A81-1C4C70F3C2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4CDFB0F1-FA59-445E-9E6B-93D26A14E2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E908271-0431-48A5-A15C-AD2EC6991E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901DCF6-A6AD-4C45-B130-34D21FBCC2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7C9B86D-195F-4916-B098-5A64B830CD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E294-7AF5-4DA3-A216-DD3F04A5DB5D}"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07E3-7C89-4319-82DD-C9C4DBCA1CCE}"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ADBC-D8E7-42DA-AE08-68BCD261B13E}"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C54E-1489-4C59-B752-27725E2A7F05}"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FFB1-D259-4E6D-A9FC-9537B39F90B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DBE6-05D8-4204-8DCB-837088BC7002}"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FE0B-C2E7-45FE-8037-156138FEF73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E59F-4D6B-4C74-B849-9B9D8A01C53D}"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BFA9-9605-43FE-9C16-F7DEA285BC07}"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82520" y="378000"/>
            <a:ext cx="8772480" cy="2232000"/>
          </a:xfrm>
          <a:prstGeom prst="rect">
            <a:avLst/>
          </a:prstGeom>
          <a:ln w="0">
            <a:noFill/>
          </a:ln>
        </p:spPr>
      </p:pic>
      <p:sp>
        <p:nvSpPr>
          <p:cNvPr id="402" name="PlaceHolder 1"/>
          <p:cNvSpPr>
            <a:spLocks noGrp="1"/>
          </p:cNvSpPr>
          <p:nvPr>
            <p:ph type="subTitle"/>
          </p:nvPr>
        </p:nvSpPr>
        <p:spPr>
          <a:xfrm>
            <a:off x="2133360" y="2819520"/>
            <a:ext cx="6559560" cy="1752480"/>
          </a:xfrm>
          <a:prstGeom prst="rect">
            <a:avLst/>
          </a:prstGeom>
          <a:noFill/>
          <a:ln w="0">
            <a:noFill/>
          </a:ln>
        </p:spPr>
        <p:txBody>
          <a:bodyPr lIns="45720" rIns="246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FL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158760" y="249120"/>
            <a:ext cx="8783640" cy="115884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Alfabetismo funcional</a:t>
            </a:r>
            <a:endParaRPr b="0" lang="en-US" sz="4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Calidad de la educación </a:t>
            </a:r>
            <a:endParaRPr b="0" lang="en-US" sz="4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Simple </a:t>
            </a:r>
            <a:endParaRPr b="0" lang="en-US" sz="4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Rápida</a:t>
            </a:r>
            <a:endParaRPr b="0" lang="en-US" sz="4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450720" y="249120"/>
            <a:ext cx="8541000" cy="1165320"/>
          </a:xfrm>
          <a:prstGeom prst="rect">
            <a:avLst/>
          </a:prstGeom>
          <a:ln w="0">
            <a:noFill/>
          </a:ln>
        </p:spPr>
      </p:pic>
      <p:sp>
        <p:nvSpPr>
          <p:cNvPr id="406" name=""/>
          <p:cNvSpPr txBox="1"/>
          <p:nvPr/>
        </p:nvSpPr>
        <p:spPr>
          <a:xfrm>
            <a:off x="457200" y="1646280"/>
            <a:ext cx="8229600" cy="4525920"/>
          </a:xfrm>
          <a:prstGeom prst="rect">
            <a:avLst/>
          </a:prstGeom>
          <a:noFill/>
          <a:ln w="0">
            <a:noFill/>
          </a:ln>
        </p:spPr>
        <p:txBody>
          <a:bodyPr anchor="t">
            <a:normAutofit fontScale="96000"/>
          </a:bodyPr>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Línea base y evaluación </a:t>
            </a:r>
            <a:endParaRPr b="0" lang="en-US" sz="40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Ambientes de aprendizaje estructurado</a:t>
            </a:r>
            <a:endParaRPr b="0" lang="en-US" sz="40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Con otra herramienta </a:t>
            </a:r>
            <a:endParaRPr b="0" lang="en-US" sz="4000" spc="-1" strike="noStrike">
              <a:solidFill>
                <a:srgbClr val="ffffff"/>
              </a:solidFill>
              <a:latin typeface="Rockwell"/>
            </a:endParaRPr>
          </a:p>
          <a:p>
            <a:pPr lvl="1" marL="613800" indent="-21924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Encuesta a los responsables</a:t>
            </a:r>
            <a:endParaRPr b="0" lang="en-US" sz="3200" spc="-1" strike="noStrike">
              <a:solidFill>
                <a:srgbClr val="ffffff"/>
              </a:solidFill>
              <a:latin typeface="Rockwell"/>
            </a:endParaRPr>
          </a:p>
          <a:p>
            <a:pPr lvl="1" marL="613800" indent="-21924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Encuesta del comportamiento sano de los jóvenes </a:t>
            </a:r>
            <a:endParaRPr b="0" lang="en-US" sz="32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Con niños(as) posprimaria</a:t>
            </a: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0720" y="249120"/>
            <a:ext cx="8541000" cy="1165320"/>
          </a:xfrm>
          <a:prstGeom prst="rect">
            <a:avLst/>
          </a:prstGeom>
          <a:ln w="0">
            <a:noFill/>
          </a:ln>
        </p:spPr>
      </p:pic>
      <p:sp>
        <p:nvSpPr>
          <p:cNvPr id="40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Letras</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Palabras </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Párrafo</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Historia y comprensión </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Material local y comprensión</a:t>
            </a:r>
            <a:endParaRPr b="0" lang="en-US" sz="40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AutoShape 10"/>
          <p:cNvSpPr/>
          <p:nvPr/>
        </p:nvSpPr>
        <p:spPr>
          <a:xfrm>
            <a:off x="1295280" y="1295280"/>
            <a:ext cx="3657600" cy="191088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Éste es un mono grande.</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Él vive en un árbol.</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 él le gusta brinca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 él también le gustan los plátanos.</a:t>
            </a:r>
            <a:endParaRPr b="0" lang="en-US" sz="2200" spc="-1" strike="noStrike">
              <a:solidFill>
                <a:srgbClr val="ffffff"/>
              </a:solidFill>
              <a:latin typeface="Arial"/>
            </a:endParaRPr>
          </a:p>
        </p:txBody>
      </p:sp>
      <p:sp>
        <p:nvSpPr>
          <p:cNvPr id="411" name="AutoShape 9"/>
          <p:cNvSpPr/>
          <p:nvPr/>
        </p:nvSpPr>
        <p:spPr>
          <a:xfrm>
            <a:off x="1371600" y="4038480"/>
            <a:ext cx="3657600" cy="191088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Raúl tiene seis años de edad.</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 él le encanta estudia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También le gusta juga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Raúl va a la escuela.</a:t>
            </a:r>
            <a:endParaRPr b="0" lang="en-US" sz="2200" spc="-1" strike="noStrike">
              <a:solidFill>
                <a:srgbClr val="ffffff"/>
              </a:solidFill>
              <a:latin typeface="Arial"/>
            </a:endParaRPr>
          </a:p>
        </p:txBody>
      </p:sp>
      <p:sp>
        <p:nvSpPr>
          <p:cNvPr id="412" name="AutoShape 8"/>
          <p:cNvSpPr/>
          <p:nvPr/>
        </p:nvSpPr>
        <p:spPr>
          <a:xfrm>
            <a:off x="5410080" y="1295280"/>
            <a:ext cx="3040200" cy="443412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Había un gran árbol de pie en un jardín. Estaba solo y se sentía solo. Un día un pájaro vino y se sentó sobre él. El pájaro tenía una semilla en su pico. Dejó caer la semilla cerca del árbol. Una planta pequeña creció ahí. Pronto había muchos más árboles. El árbol grande estaba feliz.</a:t>
            </a:r>
            <a:endParaRPr b="0" lang="en-US" sz="2000" spc="-1" strike="noStrike">
              <a:solidFill>
                <a:srgbClr val="ffffff"/>
              </a:solidFill>
              <a:latin typeface="Arial"/>
            </a:endParaRPr>
          </a:p>
        </p:txBody>
      </p:sp>
      <p:sp>
        <p:nvSpPr>
          <p:cNvPr id="413" name="Text Box 7"/>
          <p:cNvSpPr/>
          <p:nvPr/>
        </p:nvSpPr>
        <p:spPr>
          <a:xfrm>
            <a:off x="1676520" y="1066680"/>
            <a:ext cx="804600" cy="29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Párrafo</a:t>
            </a:r>
            <a:endParaRPr b="0" lang="en-US" sz="1100" spc="-1" strike="noStrike">
              <a:solidFill>
                <a:srgbClr val="ffffff"/>
              </a:solidFill>
              <a:latin typeface="Arial"/>
            </a:endParaRPr>
          </a:p>
        </p:txBody>
      </p:sp>
      <p:sp>
        <p:nvSpPr>
          <p:cNvPr id="414" name="Text Box 6"/>
          <p:cNvSpPr/>
          <p:nvPr/>
        </p:nvSpPr>
        <p:spPr>
          <a:xfrm>
            <a:off x="1752480" y="3809880"/>
            <a:ext cx="914400" cy="29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Párrafo</a:t>
            </a:r>
            <a:endParaRPr b="0" lang="en-US" sz="1100" spc="-1" strike="noStrike">
              <a:solidFill>
                <a:srgbClr val="ffffff"/>
              </a:solidFill>
              <a:latin typeface="Arial"/>
            </a:endParaRPr>
          </a:p>
        </p:txBody>
      </p:sp>
      <p:sp>
        <p:nvSpPr>
          <p:cNvPr id="415" name="Text Box 5"/>
          <p:cNvSpPr/>
          <p:nvPr/>
        </p:nvSpPr>
        <p:spPr>
          <a:xfrm>
            <a:off x="7086600" y="1066680"/>
            <a:ext cx="932040" cy="35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Historia</a:t>
            </a:r>
            <a:endParaRPr b="0" lang="en-US" sz="1100" spc="-1" strike="noStrike">
              <a:solidFill>
                <a:srgbClr val="ffffff"/>
              </a:solidFill>
              <a:latin typeface="Arial"/>
            </a:endParaRPr>
          </a:p>
        </p:txBody>
      </p:sp>
      <p:sp>
        <p:nvSpPr>
          <p:cNvPr id="416" name="Text Box 4"/>
          <p:cNvSpPr/>
          <p:nvPr/>
        </p:nvSpPr>
        <p:spPr>
          <a:xfrm>
            <a:off x="609480" y="1828800"/>
            <a:ext cx="381240" cy="31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Calibri"/>
              </a:rPr>
              <a:t>Muestra - I</a:t>
            </a:r>
            <a:endParaRPr b="0" lang="en-US" sz="1400" spc="-1" strike="noStrike">
              <a:solidFill>
                <a:srgbClr val="ffffff"/>
              </a:solidFill>
              <a:latin typeface="Arial"/>
            </a:endParaRPr>
          </a:p>
        </p:txBody>
      </p:sp>
      <p:sp>
        <p:nvSpPr>
          <p:cNvPr id="417" name="Rectangle 19"/>
          <p:cNvSpPr/>
          <p:nvPr/>
        </p:nvSpPr>
        <p:spPr>
          <a:xfrm>
            <a:off x="762120" y="381240"/>
            <a:ext cx="51814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ídale al niño o niña que escoja un párrafo para le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AutoShape 5"/>
          <p:cNvSpPr/>
          <p:nvPr/>
        </p:nvSpPr>
        <p:spPr>
          <a:xfrm>
            <a:off x="533520" y="914400"/>
            <a:ext cx="3124080" cy="417816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m</a:t>
            </a:r>
            <a:r>
              <a:rPr b="1" lang="es-ES" sz="4000" spc="-1" strike="noStrike">
                <a:solidFill>
                  <a:srgbClr val="000000"/>
                </a:solidFill>
                <a:latin typeface="Calibri"/>
              </a:rPr>
              <a:t>	</a:t>
            </a:r>
            <a:r>
              <a:rPr b="1" lang="es-ES" sz="4000" spc="-1" strike="noStrike">
                <a:solidFill>
                  <a:srgbClr val="000000"/>
                </a:solidFill>
                <a:latin typeface="Calibri"/>
              </a:rPr>
              <a:t>t</a:t>
            </a:r>
            <a:r>
              <a:rPr b="1" lang="es-ES" sz="4000" spc="-1" strike="noStrike">
                <a:solidFill>
                  <a:srgbClr val="000000"/>
                </a:solidFill>
                <a:latin typeface="Calibri"/>
              </a:rPr>
              <a:t>	</a:t>
            </a:r>
            <a:r>
              <a:rPr b="1" lang="es-ES" sz="4000" spc="-1" strike="noStrike">
                <a:solidFill>
                  <a:srgbClr val="000000"/>
                </a:solidFill>
                <a:latin typeface="Calibri"/>
              </a:rPr>
              <a:t>	</a:t>
            </a:r>
            <a:r>
              <a:rPr b="1" lang="es-ES" sz="4000" spc="-1" strike="noStrike">
                <a:solidFill>
                  <a:srgbClr val="000000"/>
                </a:solidFill>
                <a:latin typeface="Calibri"/>
              </a:rPr>
              <a:t>z</a:t>
            </a:r>
            <a:endParaRPr b="0" lang="en-US" sz="4000" spc="-1" strike="noStrike">
              <a:solidFill>
                <a:srgbClr val="ffffff"/>
              </a:solidFill>
              <a:latin typeface="Arial"/>
            </a:endParaRPr>
          </a:p>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	</a:t>
            </a:r>
            <a:r>
              <a:rPr b="1" lang="es-ES" sz="4000" spc="-1" strike="noStrike">
                <a:solidFill>
                  <a:srgbClr val="000000"/>
                </a:solidFill>
                <a:latin typeface="Calibri"/>
              </a:rPr>
              <a:t>f</a:t>
            </a:r>
            <a:r>
              <a:rPr b="1" lang="es-ES" sz="4000" spc="-1" strike="noStrike">
                <a:solidFill>
                  <a:srgbClr val="000000"/>
                </a:solidFill>
                <a:latin typeface="Calibri"/>
              </a:rPr>
              <a:t>	</a:t>
            </a:r>
            <a:r>
              <a:rPr b="1" lang="es-ES" sz="4000" spc="-1" strike="noStrike">
                <a:solidFill>
                  <a:srgbClr val="000000"/>
                </a:solidFill>
                <a:latin typeface="Calibri"/>
              </a:rPr>
              <a:t>k</a:t>
            </a:r>
            <a:endParaRPr b="0" lang="en-US" sz="4000" spc="-1" strike="noStrike">
              <a:solidFill>
                <a:srgbClr val="ffffff"/>
              </a:solidFill>
              <a:latin typeface="Arial"/>
            </a:endParaRPr>
          </a:p>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o</a:t>
            </a:r>
            <a:r>
              <a:rPr b="1" lang="es-ES" sz="4000" spc="-1" strike="noStrike">
                <a:solidFill>
                  <a:srgbClr val="000000"/>
                </a:solidFill>
                <a:latin typeface="Calibri"/>
              </a:rPr>
              <a:t>	</a:t>
            </a:r>
            <a:r>
              <a:rPr b="1" lang="es-ES" sz="4000" spc="-1" strike="noStrike">
                <a:solidFill>
                  <a:srgbClr val="000000"/>
                </a:solidFill>
                <a:latin typeface="Calibri"/>
              </a:rPr>
              <a:t>	</a:t>
            </a:r>
            <a:r>
              <a:rPr b="1" lang="es-ES" sz="4000" spc="-1" strike="noStrike">
                <a:solidFill>
                  <a:srgbClr val="000000"/>
                </a:solidFill>
                <a:latin typeface="Calibri"/>
              </a:rPr>
              <a:t>a</a:t>
            </a:r>
            <a:r>
              <a:rPr b="1" lang="es-ES" sz="4000" spc="-1" strike="noStrike">
                <a:solidFill>
                  <a:srgbClr val="000000"/>
                </a:solidFill>
                <a:latin typeface="Calibri"/>
              </a:rPr>
              <a:t>	</a:t>
            </a:r>
            <a:r>
              <a:rPr b="1" lang="es-ES" sz="4000" spc="-1" strike="noStrike">
                <a:solidFill>
                  <a:srgbClr val="000000"/>
                </a:solidFill>
                <a:latin typeface="Calibri"/>
              </a:rPr>
              <a:t>r</a:t>
            </a:r>
            <a:endParaRPr b="0" lang="en-US" sz="4000" spc="-1" strike="noStrike">
              <a:solidFill>
                <a:srgbClr val="ffffff"/>
              </a:solidFill>
              <a:latin typeface="Arial"/>
            </a:endParaRPr>
          </a:p>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	</a:t>
            </a:r>
            <a:r>
              <a:rPr b="1" lang="es-ES" sz="4000" spc="-1" strike="noStrike">
                <a:solidFill>
                  <a:srgbClr val="000000"/>
                </a:solidFill>
                <a:latin typeface="Calibri"/>
              </a:rPr>
              <a:t>v</a:t>
            </a:r>
            <a:r>
              <a:rPr b="1" lang="es-ES" sz="4000" spc="-1" strike="noStrike">
                <a:solidFill>
                  <a:srgbClr val="000000"/>
                </a:solidFill>
                <a:latin typeface="Calibri"/>
              </a:rPr>
              <a:t>	</a:t>
            </a:r>
            <a:r>
              <a:rPr b="1" lang="es-ES" sz="4000" spc="-1" strike="noStrike">
                <a:solidFill>
                  <a:srgbClr val="000000"/>
                </a:solidFill>
                <a:latin typeface="Calibri"/>
              </a:rPr>
              <a:t>p</a:t>
            </a:r>
            <a:endParaRPr b="0" lang="en-US" sz="4000" spc="-1" strike="noStrike">
              <a:solidFill>
                <a:srgbClr val="ffffff"/>
              </a:solidFill>
              <a:latin typeface="Arial"/>
            </a:endParaRPr>
          </a:p>
        </p:txBody>
      </p:sp>
      <p:sp>
        <p:nvSpPr>
          <p:cNvPr id="419" name="AutoShape 8"/>
          <p:cNvSpPr/>
          <p:nvPr/>
        </p:nvSpPr>
        <p:spPr>
          <a:xfrm>
            <a:off x="4419720" y="914400"/>
            <a:ext cx="4038480" cy="427356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mbos</a:t>
            </a:r>
            <a:r>
              <a:rPr b="1" lang="es-ES" sz="3200" spc="-1" strike="noStrike">
                <a:solidFill>
                  <a:srgbClr val="000000"/>
                </a:solidFill>
                <a:latin typeface="Calibri"/>
              </a:rPr>
              <a:t>	</a:t>
            </a:r>
            <a:r>
              <a:rPr b="1" lang="es-ES" sz="3200" spc="-1" strike="noStrike">
                <a:solidFill>
                  <a:srgbClr val="000000"/>
                </a:solidFill>
                <a:latin typeface="Calibri"/>
              </a:rPr>
              <a:t>paso</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1" lang="es-ES" sz="3200" spc="-1" strike="noStrike">
                <a:solidFill>
                  <a:srgbClr val="000000"/>
                </a:solidFill>
                <a:latin typeface="Calibri"/>
              </a:rPr>
              <a:t>taza</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fuera</a:t>
            </a:r>
            <a:r>
              <a:rPr b="1" lang="es-ES" sz="3200" spc="-1" strike="noStrike">
                <a:solidFill>
                  <a:srgbClr val="000000"/>
                </a:solidFill>
                <a:latin typeface="Calibri"/>
              </a:rPr>
              <a:t>	</a:t>
            </a:r>
            <a:r>
              <a:rPr b="1" lang="es-ES" sz="3200" spc="-1" strike="noStrike">
                <a:solidFill>
                  <a:srgbClr val="000000"/>
                </a:solidFill>
                <a:latin typeface="Calibri"/>
              </a:rPr>
              <a:t>cuerda</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erro</a:t>
            </a:r>
            <a:r>
              <a:rPr b="1" lang="es-ES" sz="3200" spc="-1" strike="noStrike">
                <a:solidFill>
                  <a:srgbClr val="000000"/>
                </a:solidFill>
                <a:latin typeface="Calibri"/>
              </a:rPr>
              <a:t>	</a:t>
            </a:r>
            <a:r>
              <a:rPr b="1" lang="es-ES" sz="3200" spc="-1" strike="noStrike">
                <a:solidFill>
                  <a:srgbClr val="000000"/>
                </a:solidFill>
                <a:latin typeface="Calibri"/>
              </a:rPr>
              <a:t>sombrero</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1" lang="es-ES" sz="3200" spc="-1" strike="noStrike">
                <a:solidFill>
                  <a:srgbClr val="000000"/>
                </a:solidFill>
                <a:latin typeface="Calibri"/>
              </a:rPr>
              <a:t>llave</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eseo</a:t>
            </a:r>
            <a:r>
              <a:rPr b="1" lang="es-ES" sz="3200" spc="-1" strike="noStrike">
                <a:solidFill>
                  <a:srgbClr val="000000"/>
                </a:solidFill>
                <a:latin typeface="Calibri"/>
              </a:rPr>
              <a:t>	</a:t>
            </a:r>
            <a:r>
              <a:rPr b="1" lang="es-ES" sz="3200" spc="-1" strike="noStrike">
                <a:solidFill>
                  <a:srgbClr val="000000"/>
                </a:solidFill>
                <a:latin typeface="Calibri"/>
              </a:rPr>
              <a:t>muñeca</a:t>
            </a:r>
            <a:endParaRPr b="0" lang="en-US" sz="3200" spc="-1" strike="noStrike">
              <a:solidFill>
                <a:srgbClr val="ffffff"/>
              </a:solidFill>
              <a:latin typeface="Arial"/>
            </a:endParaRPr>
          </a:p>
        </p:txBody>
      </p:sp>
      <p:sp>
        <p:nvSpPr>
          <p:cNvPr id="420" name="Text Box 4"/>
          <p:cNvSpPr/>
          <p:nvPr/>
        </p:nvSpPr>
        <p:spPr>
          <a:xfrm>
            <a:off x="990720" y="609480"/>
            <a:ext cx="99036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etra</a:t>
            </a:r>
            <a:endParaRPr b="0" lang="en-US" sz="1800" spc="-1" strike="noStrike">
              <a:solidFill>
                <a:srgbClr val="ffffff"/>
              </a:solidFill>
              <a:latin typeface="Arial"/>
            </a:endParaRPr>
          </a:p>
        </p:txBody>
      </p:sp>
      <p:sp>
        <p:nvSpPr>
          <p:cNvPr id="421" name="Text Box 7"/>
          <p:cNvSpPr/>
          <p:nvPr/>
        </p:nvSpPr>
        <p:spPr>
          <a:xfrm>
            <a:off x="7086600" y="685800"/>
            <a:ext cx="1108080" cy="40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labra</a:t>
            </a:r>
            <a:endParaRPr b="0" lang="en-US" sz="1800" spc="-1" strike="noStrike">
              <a:solidFill>
                <a:srgbClr val="ffffff"/>
              </a:solidFill>
              <a:latin typeface="Arial"/>
            </a:endParaRPr>
          </a:p>
        </p:txBody>
      </p:sp>
      <p:sp>
        <p:nvSpPr>
          <p:cNvPr id="422" name="Text Box 3"/>
          <p:cNvSpPr/>
          <p:nvPr/>
        </p:nvSpPr>
        <p:spPr>
          <a:xfrm>
            <a:off x="685800" y="5410080"/>
            <a:ext cx="342900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egunte cualesquiera cinc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4 de 5 deberán estar correctas.</a:t>
            </a:r>
            <a:endParaRPr b="0" lang="en-US" sz="1800" spc="-1" strike="noStrike">
              <a:solidFill>
                <a:srgbClr val="ffffff"/>
              </a:solidFill>
              <a:latin typeface="Arial"/>
            </a:endParaRPr>
          </a:p>
        </p:txBody>
      </p:sp>
      <p:sp>
        <p:nvSpPr>
          <p:cNvPr id="423" name="Rectangle 9"/>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Rectangle 15"/>
          <p:cNvSpPr/>
          <p:nvPr/>
        </p:nvSpPr>
        <p:spPr>
          <a:xfrm>
            <a:off x="0" y="2728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Text Box 3"/>
          <p:cNvSpPr/>
          <p:nvPr/>
        </p:nvSpPr>
        <p:spPr>
          <a:xfrm>
            <a:off x="4648320" y="5410080"/>
            <a:ext cx="380988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egunte cualesquiera cinc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4 de 5 deberán estar correct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450720" y="249120"/>
            <a:ext cx="8541000" cy="1165320"/>
          </a:xfrm>
          <a:prstGeom prst="rect">
            <a:avLst/>
          </a:prstGeom>
          <a:ln w="0">
            <a:noFill/>
          </a:ln>
        </p:spPr>
      </p:pic>
      <p:sp>
        <p:nvSpPr>
          <p:cNvPr id="427"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Recorte del periódico</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Folleto informativo</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Recorte de revista</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Incorpore 3 preguntas de comprensió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Éste es el ‘alfabetismo funcional’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08:09:10Z</dcterms:created>
  <dc:creator>Isabelle Carboni</dc:creator>
  <dc:description/>
  <dc:language>en-US</dc:language>
  <cp:lastModifiedBy> </cp:lastModifiedBy>
  <dcterms:modified xsi:type="dcterms:W3CDTF">2012-12-18T19:19:19Z</dcterms:modified>
  <cp:revision>20</cp:revision>
  <dc:subject/>
  <dc:title>Functional Literacy Assessment Tool</dc:title>
</cp:coreProperties>
</file>