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9B6-157B-4DEA-9043-0968A3B7E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DE8E-7EF7-424C-AC90-05EA58AD05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4119-0526-4B1E-A156-9B929142E0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B81-D523-4FAC-B1ED-3516654346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14C-377A-410A-8699-0A3B393B56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8402-3DC5-4F00-9C49-EB62649F55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5DCE-F2CE-4B8C-9EE3-A6354A6A0B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4B81-54E8-42D9-AD37-1504B2DD1C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DE1-7486-4125-A6A8-6B7D00DAE1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94F-B14B-465A-9DD8-28BA8213F6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5FB2-851B-470A-827E-C85B9523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8F60-66BD-4B65-9D5F-1FCF677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F747-566E-43E3-8944-1356C278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D81B-9328-4AAC-B8E4-9020F699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01C-B77F-437C-9F03-E7DF18F2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637-E8FA-46FA-8DCF-034C5CBC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8B8E-4F0B-475A-AABA-F6042E3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38B4-93D1-40D7-8AC0-D3D1E81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F1AA-AE38-43A4-B173-5014B1D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1B8F-2217-4821-A41A-3A6969E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684-0A30-4C5E-AC5A-EC501AF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F89E-394F-430C-A29D-53A913A7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DD1-2F07-4BCF-94AF-48457BE1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44B-5B7E-47BD-958F-97AEB2FB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D09-4E1B-4DB3-8926-17028C4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CB0-1178-46B1-B8B1-7F3765AC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43D1-6BC2-4039-8339-55E65A4A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6D4C-3115-4BF4-BFEB-C4B355F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68FC-8D79-4BD9-8F19-DFD44D4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8A7E-4748-4F7D-8655-ACF6CA11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8535-9481-4B3C-A1EC-71D1C7C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4D56-197E-49B5-B5BF-04E4C48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713A-9627-4C99-BA8C-02112D2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72EB-0F74-4E6B-B9A6-1917052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5D13-4C7B-4A72-837D-8B0964BE4F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E603-41A7-466E-8F0A-E0EE9870A7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Están aprendiendo los(as) niños(as)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dición de los resultados educativ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Cómo medimos ahor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915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sistencia esco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scripción escolar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Finalización de estudios escolar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SUPUES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si los(as) niños(as) van a la escuela, están aprendiendo a leer, escribir y utilizar habilidades numéric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5" descr="MC900027259[1]"/>
          <p:cNvPicPr/>
          <p:nvPr/>
        </p:nvPicPr>
        <p:blipFill>
          <a:blip r:embed="rId1"/>
          <a:stretch/>
        </p:blipFill>
        <p:spPr>
          <a:xfrm>
            <a:off x="687708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MC900027259[1]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MC900027259[1]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3" descr="MC900027259[1]"/>
          <p:cNvPicPr/>
          <p:nvPr/>
        </p:nvPicPr>
        <p:blipFill>
          <a:blip r:embed="rId1"/>
          <a:stretch/>
        </p:blipFill>
        <p:spPr>
          <a:xfrm>
            <a:off x="6372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900027259[1]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900027259[1]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900027259[1]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900027259[1]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900027259[1]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MC900027259[1]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MC900027259[1]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MC900027259[1]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MC900027259[1]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MC900027259[1]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MC900027259[1]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900027259[1]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8"/>
          <p:cNvSpPr/>
          <p:nvPr/>
        </p:nvSpPr>
        <p:spPr>
          <a:xfrm>
            <a:off x="179280" y="5877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IN RECURSOS DE APRENDIZAJE ADIC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3" descr="MC900027259[1]"/>
          <p:cNvPicPr/>
          <p:nvPr/>
        </p:nvPicPr>
        <p:blipFill>
          <a:blip r:embed="rId1"/>
          <a:stretch/>
        </p:blipFill>
        <p:spPr>
          <a:xfrm>
            <a:off x="6372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MC900027259[1]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C900027259[1]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MC900027259[1]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MC900027259[1]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MC900027259[1]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MC900027259[1]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MC900027259[1]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MC900027259[1]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MC900027259[1]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MC900027259[1]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MC900027259[1]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MC900027259[1]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OS RESULTADOS EDUCATIVOS DISMINU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Qué necesita cambiar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nfocarse en medi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RESULTADOS DEL APRENDIZAJ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Por qué la lectur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Habilidad más básic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Indicador más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Lectura como indicador indirecto de la educac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Por qué la lectura ora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Más confianz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Fácil de med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os(as) niños(as) pueden desempeñarse peor en prueba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¿ALGUNA PREGUNT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 </cp:lastModifiedBy>
  <dcterms:modified xsi:type="dcterms:W3CDTF">2012-12-18T19:15:31Z</dcterms:modified>
  <cp:revision>7</cp:revision>
  <dc:subject/>
  <dc:title>Are children learning?</dc:title>
</cp:coreProperties>
</file>