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80520-CB63-4C1D-91B3-CBE4D3E2D9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DC200-62A5-405C-A1D8-62ED9318A4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52745-B376-43F3-B93F-3EDC4EDE406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11A59-4FBA-4373-8BFE-428BC6144D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8F4F7-7900-4F0B-880E-27921DC494D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B5FF3-8774-49E6-A966-AFF360E29E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B961F-C78C-4184-B093-1DC4ECB6A11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1AA27-93DE-4F21-B51D-8E38830CCB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E3A78-357A-4FEB-A0D9-4BD2F14E73D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6AE98-DA85-4EAD-BE3F-8C67DBC253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DF7E4-8D69-42B4-BEA9-1A9E28C0A8A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AF1D7-E5D0-478E-90FC-401CE38350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EEB9C-D200-4295-8932-1732AA46257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AF40C-5181-4853-8A69-0F10D28FA1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ADAA5-03B5-4B90-9B99-4426DA401DA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394FB-5D37-47C6-81BC-0D8477E9D3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BC700-4E18-4B5F-A2E5-6F5CD4B09FF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AD4D5-968F-4312-90E2-D7EC65ADC0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CE83-9614-4795-8759-BE22583C4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AE95-6513-46B5-B781-B9AB64090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2D185-3142-4671-9205-DEEE6802B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DD7E-D5B5-4C94-A5C9-9A5748705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7C988-857C-4FFD-8247-75B01A57E9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B9273-C57B-4690-A401-707DBA0E76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64C09-5B3D-4A62-916A-B15F592D33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C4808-880C-4F8C-AC23-9792E1F3F6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76D96-E9D4-4BF1-8200-660929D18D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A3B2F-2F4F-41D3-96B2-29B2371C80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57795-42AC-4BE5-8A4E-FB7C4D5839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60560-FF83-4CE6-B20F-186020354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85620-6DC6-4579-8ADD-BF906A49C4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07F9F-90D3-401E-8414-0A88474385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75736-DF3B-4E4A-A3E7-D448A78612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3AACC-75BB-40DD-A032-A49AECE328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9FB0E-497D-467B-822C-F2FC2DFE5E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D3D9-CD3F-4090-9C56-02B515BC0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C082-73B8-499B-B69B-D410D6345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3C49-1758-4043-957C-9767069BD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5DEC-E941-4A4A-9E70-F991A0E57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0F5A8-CB59-4D16-A886-E70AEE17B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84BB-BDBF-41D3-AAFD-261877C6C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55F04-6C10-40A1-9022-0BB8BF344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57200" y="624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6C944-AC38-402A-B858-5FF4648D65D5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34640" cy="6843600"/>
            <a:chOff x="0" y="0"/>
            <a:chExt cx="9134640" cy="6843600"/>
          </a:xfrm>
        </p:grpSpPr>
        <p:grpSp>
          <p:nvGrpSpPr>
            <p:cNvPr id="3" name="Group 4"/>
            <p:cNvGrpSpPr/>
            <p:nvPr/>
          </p:nvGrpSpPr>
          <p:grpSpPr>
            <a:xfrm>
              <a:off x="2743200" y="3540240"/>
              <a:ext cx="6386400" cy="3303360"/>
              <a:chOff x="2743200" y="3540240"/>
              <a:chExt cx="6386400" cy="330336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68760" cy="2646360"/>
              </a:xfrm>
              <a:custGeom>
                <a:avLst/>
                <a:gdLst>
                  <a:gd name="textAreaLeft" fmla="*/ 0 w 4568760"/>
                  <a:gd name="textAreaRight" fmla="*/ 4569120 w 4568760"/>
                  <a:gd name="textAreaTop" fmla="*/ 0 h 2646360"/>
                  <a:gd name="textAreaBottom" fmla="*/ 2646720 h 264636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2240" cy="1281240"/>
              </a:xfrm>
              <a:custGeom>
                <a:avLst/>
                <a:gdLst>
                  <a:gd name="textAreaLeft" fmla="*/ 0 w 1992240"/>
                  <a:gd name="textAreaRight" fmla="*/ 1992600 w 1992240"/>
                  <a:gd name="textAreaTop" fmla="*/ 0 h 1281240"/>
                  <a:gd name="textAreaBottom" fmla="*/ 1281240 h 128124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16560" cy="1531800"/>
              </a:xfrm>
              <a:custGeom>
                <a:avLst/>
                <a:gdLst>
                  <a:gd name="textAreaLeft" fmla="*/ 0 w 4516560"/>
                  <a:gd name="textAreaRight" fmla="*/ 4516920 w 4516560"/>
                  <a:gd name="textAreaTop" fmla="*/ 0 h 1531800"/>
                  <a:gd name="textAreaBottom" fmla="*/ 1532160 h 153180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a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67120" cy="3303360"/>
              </a:xfrm>
              <a:custGeom>
                <a:avLst/>
                <a:gdLst>
                  <a:gd name="textAreaLeft" fmla="*/ 0 w 4767120"/>
                  <a:gd name="textAreaRight" fmla="*/ 4767480 w 4767120"/>
                  <a:gd name="textAreaTop" fmla="*/ 0 h 3303360"/>
                  <a:gd name="textAreaBottom" fmla="*/ 3303720 h 330336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74960" cy="849600"/>
              </a:xfrm>
              <a:custGeom>
                <a:avLst/>
                <a:gdLst>
                  <a:gd name="textAreaLeft" fmla="*/ 0 w 1974960"/>
                  <a:gd name="textAreaRight" fmla="*/ 1974960 w 1974960"/>
                  <a:gd name="textAreaTop" fmla="*/ 0 h 849600"/>
                  <a:gd name="textAreaBottom" fmla="*/ 849960 h 84960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0800" cy="243396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2433960"/>
                <a:gd name="textAreaBottom" fmla="*/ 2434320 h 243396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0" y="0"/>
              <a:ext cx="9134640" cy="2813040"/>
            </a:xfrm>
            <a:custGeom>
              <a:avLst/>
              <a:gdLst>
                <a:gd name="textAreaLeft" fmla="*/ 0 w 9134640"/>
                <a:gd name="textAreaRight" fmla="*/ 9135000 w 9134640"/>
                <a:gd name="textAreaTop" fmla="*/ 0 h 2813040"/>
                <a:gd name="textAreaBottom" fmla="*/ 2813400 h 281304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Text Box 1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9134640" cy="6843600"/>
            <a:chOff x="0" y="0"/>
            <a:chExt cx="9134640" cy="6843600"/>
          </a:xfrm>
        </p:grpSpPr>
        <p:grpSp>
          <p:nvGrpSpPr>
            <p:cNvPr id="51" name="Group 2"/>
            <p:cNvGrpSpPr/>
            <p:nvPr/>
          </p:nvGrpSpPr>
          <p:grpSpPr>
            <a:xfrm>
              <a:off x="2743200" y="3540240"/>
              <a:ext cx="6386400" cy="3303360"/>
              <a:chOff x="2743200" y="3540240"/>
              <a:chExt cx="6386400" cy="3303360"/>
            </a:xfrm>
          </p:grpSpPr>
          <p:sp>
            <p:nvSpPr>
              <p:cNvPr id="52" name="Freeform 3"/>
              <p:cNvSpPr/>
              <p:nvPr/>
            </p:nvSpPr>
            <p:spPr>
              <a:xfrm>
                <a:off x="2743200" y="4197240"/>
                <a:ext cx="4568760" cy="2646360"/>
              </a:xfrm>
              <a:custGeom>
                <a:avLst/>
                <a:gdLst>
                  <a:gd name="textAreaLeft" fmla="*/ 0 w 4568760"/>
                  <a:gd name="textAreaRight" fmla="*/ 4569120 w 4568760"/>
                  <a:gd name="textAreaTop" fmla="*/ 0 h 2646360"/>
                  <a:gd name="textAreaBottom" fmla="*/ 2646720 h 264636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4"/>
              <p:cNvSpPr/>
              <p:nvPr/>
            </p:nvSpPr>
            <p:spPr>
              <a:xfrm>
                <a:off x="6620040" y="4240080"/>
                <a:ext cx="1992240" cy="1281240"/>
              </a:xfrm>
              <a:custGeom>
                <a:avLst/>
                <a:gdLst>
                  <a:gd name="textAreaLeft" fmla="*/ 0 w 1992240"/>
                  <a:gd name="textAreaRight" fmla="*/ 1992600 w 1992240"/>
                  <a:gd name="textAreaTop" fmla="*/ 0 h 1281240"/>
                  <a:gd name="textAreaBottom" fmla="*/ 1281240 h 128124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5"/>
              <p:cNvSpPr/>
              <p:nvPr/>
            </p:nvSpPr>
            <p:spPr>
              <a:xfrm>
                <a:off x="4603680" y="5311800"/>
                <a:ext cx="4516560" cy="1531800"/>
              </a:xfrm>
              <a:custGeom>
                <a:avLst/>
                <a:gdLst>
                  <a:gd name="textAreaLeft" fmla="*/ 0 w 4516560"/>
                  <a:gd name="textAreaRight" fmla="*/ 4516920 w 4516560"/>
                  <a:gd name="textAreaTop" fmla="*/ 0 h 1531800"/>
                  <a:gd name="textAreaBottom" fmla="*/ 1532160 h 153180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a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>
                <a:off x="4362480" y="3540240"/>
                <a:ext cx="4767120" cy="3303360"/>
              </a:xfrm>
              <a:custGeom>
                <a:avLst/>
                <a:gdLst>
                  <a:gd name="textAreaLeft" fmla="*/ 0 w 4767120"/>
                  <a:gd name="textAreaRight" fmla="*/ 4767480 w 4767120"/>
                  <a:gd name="textAreaTop" fmla="*/ 0 h 3303360"/>
                  <a:gd name="textAreaBottom" fmla="*/ 3303720 h 330336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>
                <a:off x="7145280" y="3678120"/>
                <a:ext cx="1974960" cy="849600"/>
              </a:xfrm>
              <a:custGeom>
                <a:avLst/>
                <a:gdLst>
                  <a:gd name="textAreaLeft" fmla="*/ 0 w 1974960"/>
                  <a:gd name="textAreaRight" fmla="*/ 1974960 w 1974960"/>
                  <a:gd name="textAreaTop" fmla="*/ 0 h 849600"/>
                  <a:gd name="textAreaBottom" fmla="*/ 849960 h 84960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8"/>
            <p:cNvSpPr/>
            <p:nvPr/>
          </p:nvSpPr>
          <p:spPr>
            <a:xfrm>
              <a:off x="5273640" y="2128680"/>
              <a:ext cx="2890800" cy="243396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2433960"/>
                <a:gd name="textAreaBottom" fmla="*/ 2434320 h 243396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0"/>
              <a:ext cx="9134640" cy="2813040"/>
            </a:xfrm>
            <a:custGeom>
              <a:avLst/>
              <a:gdLst>
                <a:gd name="textAreaLeft" fmla="*/ 0 w 9134640"/>
                <a:gd name="textAreaRight" fmla="*/ 9135000 w 9134640"/>
                <a:gd name="textAreaTop" fmla="*/ 0 h 2813040"/>
                <a:gd name="textAreaBottom" fmla="*/ 2813400 h 281304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24080" y="6249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6552720" y="625284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9424BAD-B694-44BB-A1AA-2ED7CA3E9B5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Les enfants apprennent-ils 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Mesurer les résultats éducatif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57200" y="-204840"/>
            <a:ext cx="82296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mment mesurons-nous aujourd'hui 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457200" y="1600200"/>
            <a:ext cx="8229600" cy="60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1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résence à l'éco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11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Inscriptions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11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Achèvement des étud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11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HYPOTHESE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: si les enfants vont à l'école, ils apprennent à lire, écrire et comp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roblèmes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6" name="Group 2"/>
          <p:cNvGrpSpPr/>
          <p:nvPr/>
        </p:nvGrpSpPr>
        <p:grpSpPr>
          <a:xfrm>
            <a:off x="6877080" y="1989000"/>
            <a:ext cx="754200" cy="1917720"/>
            <a:chOff x="6877080" y="1989000"/>
            <a:chExt cx="754200" cy="1917720"/>
          </a:xfrm>
        </p:grpSpPr>
        <p:pic>
          <p:nvPicPr>
            <p:cNvPr id="117" name="Picture 3" descr=""/>
            <p:cNvPicPr/>
            <p:nvPr/>
          </p:nvPicPr>
          <p:blipFill>
            <a:blip r:embed="rId1"/>
            <a:stretch/>
          </p:blipFill>
          <p:spPr>
            <a:xfrm>
              <a:off x="6877080" y="1989000"/>
              <a:ext cx="754200" cy="19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4"/>
            <p:cNvSpPr/>
            <p:nvPr/>
          </p:nvSpPr>
          <p:spPr>
            <a:xfrm>
              <a:off x="6877080" y="1989000"/>
              <a:ext cx="75420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1820880" cy="1633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392436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4"/>
          <a:stretch/>
        </p:blipFill>
        <p:spPr>
          <a:xfrm>
            <a:off x="478800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5"/>
          <a:stretch/>
        </p:blipFill>
        <p:spPr>
          <a:xfrm>
            <a:off x="5796000" y="2060640"/>
            <a:ext cx="760320" cy="19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roblèmes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4" name="Group 2"/>
          <p:cNvGrpSpPr/>
          <p:nvPr/>
        </p:nvGrpSpPr>
        <p:grpSpPr>
          <a:xfrm>
            <a:off x="6372360" y="1989000"/>
            <a:ext cx="753840" cy="1917720"/>
            <a:chOff x="6372360" y="1989000"/>
            <a:chExt cx="753840" cy="1917720"/>
          </a:xfrm>
        </p:grpSpPr>
        <p:pic>
          <p:nvPicPr>
            <p:cNvPr id="125" name="Picture 3" descr=""/>
            <p:cNvPicPr/>
            <p:nvPr/>
          </p:nvPicPr>
          <p:blipFill>
            <a:blip r:embed="rId1"/>
            <a:stretch/>
          </p:blipFill>
          <p:spPr>
            <a:xfrm>
              <a:off x="6372360" y="1989000"/>
              <a:ext cx="753840" cy="19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4"/>
            <p:cNvSpPr/>
            <p:nvPr/>
          </p:nvSpPr>
          <p:spPr>
            <a:xfrm>
              <a:off x="6372360" y="1989000"/>
              <a:ext cx="75384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1820880" cy="1633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392436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4"/>
          <a:stretch/>
        </p:blipFill>
        <p:spPr>
          <a:xfrm>
            <a:off x="4643280" y="2060640"/>
            <a:ext cx="760680" cy="1923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5"/>
          <a:stretch/>
        </p:blipFill>
        <p:spPr>
          <a:xfrm>
            <a:off x="550872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6"/>
          <a:stretch/>
        </p:blipFill>
        <p:spPr>
          <a:xfrm>
            <a:off x="3276720" y="191628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7"/>
          <a:stretch/>
        </p:blipFill>
        <p:spPr>
          <a:xfrm>
            <a:off x="709308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"/>
          <p:cNvPicPr/>
          <p:nvPr/>
        </p:nvPicPr>
        <p:blipFill>
          <a:blip r:embed="rId8"/>
          <a:stretch/>
        </p:blipFill>
        <p:spPr>
          <a:xfrm>
            <a:off x="341964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9"/>
          <a:stretch/>
        </p:blipFill>
        <p:spPr>
          <a:xfrm>
            <a:off x="40672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"/>
          <p:cNvPicPr/>
          <p:nvPr/>
        </p:nvPicPr>
        <p:blipFill>
          <a:blip r:embed="rId10"/>
          <a:stretch/>
        </p:blipFill>
        <p:spPr>
          <a:xfrm>
            <a:off x="558000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"/>
          <p:cNvPicPr/>
          <p:nvPr/>
        </p:nvPicPr>
        <p:blipFill>
          <a:blip r:embed="rId11"/>
          <a:stretch/>
        </p:blipFill>
        <p:spPr>
          <a:xfrm>
            <a:off x="4859280" y="400536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"/>
          <p:cNvPicPr/>
          <p:nvPr/>
        </p:nvPicPr>
        <p:blipFill>
          <a:blip r:embed="rId12"/>
          <a:stretch/>
        </p:blipFill>
        <p:spPr>
          <a:xfrm>
            <a:off x="637236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"/>
          <p:cNvPicPr/>
          <p:nvPr/>
        </p:nvPicPr>
        <p:blipFill>
          <a:blip r:embed="rId13"/>
          <a:stretch/>
        </p:blipFill>
        <p:spPr>
          <a:xfrm>
            <a:off x="7885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"/>
          <p:cNvPicPr/>
          <p:nvPr/>
        </p:nvPicPr>
        <p:blipFill>
          <a:blip r:embed="rId14"/>
          <a:stretch/>
        </p:blipFill>
        <p:spPr>
          <a:xfrm>
            <a:off x="7093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"/>
          <p:cNvPicPr/>
          <p:nvPr/>
        </p:nvPicPr>
        <p:blipFill>
          <a:blip r:embed="rId15"/>
          <a:stretch/>
        </p:blipFill>
        <p:spPr>
          <a:xfrm>
            <a:off x="7885080" y="2133720"/>
            <a:ext cx="760320" cy="1923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9"/>
          <p:cNvSpPr/>
          <p:nvPr/>
        </p:nvSpPr>
        <p:spPr>
          <a:xfrm>
            <a:off x="179280" y="587700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ANS RESSOURCES D'APPRENTISSAGE SUPPLEMENTAIR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roblèmes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3" name="Group 2"/>
          <p:cNvGrpSpPr/>
          <p:nvPr/>
        </p:nvGrpSpPr>
        <p:grpSpPr>
          <a:xfrm>
            <a:off x="6372360" y="1989000"/>
            <a:ext cx="753840" cy="1917720"/>
            <a:chOff x="6372360" y="1989000"/>
            <a:chExt cx="753840" cy="1917720"/>
          </a:xfrm>
        </p:grpSpPr>
        <p:pic>
          <p:nvPicPr>
            <p:cNvPr id="144" name="Picture 3" descr=""/>
            <p:cNvPicPr/>
            <p:nvPr/>
          </p:nvPicPr>
          <p:blipFill>
            <a:blip r:embed="rId1"/>
            <a:stretch/>
          </p:blipFill>
          <p:spPr>
            <a:xfrm>
              <a:off x="6372360" y="1989000"/>
              <a:ext cx="753840" cy="19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4"/>
            <p:cNvSpPr/>
            <p:nvPr/>
          </p:nvSpPr>
          <p:spPr>
            <a:xfrm>
              <a:off x="6372360" y="1989000"/>
              <a:ext cx="75384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1820880" cy="1633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392436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4"/>
          <a:stretch/>
        </p:blipFill>
        <p:spPr>
          <a:xfrm>
            <a:off x="4643280" y="2060640"/>
            <a:ext cx="760680" cy="1923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5"/>
          <a:stretch/>
        </p:blipFill>
        <p:spPr>
          <a:xfrm>
            <a:off x="550872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"/>
          <p:cNvPicPr/>
          <p:nvPr/>
        </p:nvPicPr>
        <p:blipFill>
          <a:blip r:embed="rId6"/>
          <a:stretch/>
        </p:blipFill>
        <p:spPr>
          <a:xfrm>
            <a:off x="3276720" y="191628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7"/>
          <a:stretch/>
        </p:blipFill>
        <p:spPr>
          <a:xfrm>
            <a:off x="709308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8"/>
          <a:stretch/>
        </p:blipFill>
        <p:spPr>
          <a:xfrm>
            <a:off x="341964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"/>
          <p:cNvPicPr/>
          <p:nvPr/>
        </p:nvPicPr>
        <p:blipFill>
          <a:blip r:embed="rId9"/>
          <a:stretch/>
        </p:blipFill>
        <p:spPr>
          <a:xfrm>
            <a:off x="40672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"/>
          <p:cNvPicPr/>
          <p:nvPr/>
        </p:nvPicPr>
        <p:blipFill>
          <a:blip r:embed="rId10"/>
          <a:stretch/>
        </p:blipFill>
        <p:spPr>
          <a:xfrm>
            <a:off x="558000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11"/>
          <a:stretch/>
        </p:blipFill>
        <p:spPr>
          <a:xfrm>
            <a:off x="4859280" y="400536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2"/>
          <a:stretch/>
        </p:blipFill>
        <p:spPr>
          <a:xfrm>
            <a:off x="637236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3"/>
          <a:stretch/>
        </p:blipFill>
        <p:spPr>
          <a:xfrm>
            <a:off x="7885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4"/>
          <a:stretch/>
        </p:blipFill>
        <p:spPr>
          <a:xfrm>
            <a:off x="7093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5"/>
          <a:stretch/>
        </p:blipFill>
        <p:spPr>
          <a:xfrm>
            <a:off x="7885080" y="2133720"/>
            <a:ext cx="760320" cy="1923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9"/>
          <p:cNvSpPr/>
          <p:nvPr/>
        </p:nvSpPr>
        <p:spPr>
          <a:xfrm>
            <a:off x="539640" y="58770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RESULTATS EDUCATIFS EN BAIS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AutoShape 20"/>
          <p:cNvSpPr/>
          <p:nvPr/>
        </p:nvSpPr>
        <p:spPr>
          <a:xfrm>
            <a:off x="611280" y="4653000"/>
            <a:ext cx="1081080" cy="1152360"/>
          </a:xfrm>
          <a:prstGeom prst="downArrow">
            <a:avLst>
              <a:gd name="adj1" fmla="val 50000"/>
              <a:gd name="adj2" fmla="val 2664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Qu'est-ce qui doit changer 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371600" y="3886200"/>
            <a:ext cx="640080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Mesurer en priorité les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RESULTATS DE L'APPRENTISSAG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ourquoi la lecture 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Compétence la plus élémentair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Indicateur le plus pertinen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lecture comme indicateur indirect du niveau d'éduc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ourquoi la lecture à voix haute 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9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Confiance plus grand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9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Facile à évalu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9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Les performances des enfants à l'écrit sont souvent moins bonne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611280" y="3141720"/>
            <a:ext cx="7772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S QUESTIONS 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395280" y="1123920"/>
            <a:ext cx="77724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06:51:41Z</dcterms:created>
  <dc:creator>carbonii</dc:creator>
  <dc:description/>
  <dc:language>en-US</dc:language>
  <cp:lastModifiedBy>Nath</cp:lastModifiedBy>
  <dcterms:modified xsi:type="dcterms:W3CDTF">2013-03-31T23:58:07Z</dcterms:modified>
  <cp:revision>5</cp:revision>
  <dc:subject/>
  <dc:title>Are children learning?</dc:title>
</cp:coreProperties>
</file>