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move the slide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util d’évaluation de l’alphabétisation fonctionne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ourquoi utiliser cet outil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Quand l’utiliser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Qu’est-ce que c’est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upports locau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1BD52-4FBB-4019-9A51-9D6DF28D44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4592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40082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5331E-3D27-4FC5-AD18-90C512526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4592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2440" y="164592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0082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2440" y="40082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8C111-4ACB-4CDA-92B6-098ECE8A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64592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8200" y="164592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9560" y="164592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40082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8200" y="40082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9560" y="40082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0D086-588D-4998-A790-072FDA4768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1FC311-E98F-45B9-A9A0-24600B9F6D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64592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75C7B5-4814-4C53-8D23-85601FEB8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4592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3ACD47-BE8D-4990-83DD-D3983A1B0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4592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2440" y="164592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296955-BD22-4062-9B43-EB6253DC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BCFDE0-6A26-4922-B53B-1E8A9D6F6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6840" y="-100080"/>
            <a:ext cx="8226360" cy="69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AF207A-0DA9-404F-AD55-07E85D41E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4592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2440" y="164592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40082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F76EAE-EE75-4CC5-BB77-C335B29A0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64592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3A083-C5FF-4673-BABC-093949F64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4592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2440" y="164592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2440" y="40082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A7DE72-343E-467A-AE0B-E77EB3511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4592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440" y="164592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0082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7E3BDF-D887-4283-BC1F-46821A3C5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4592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40082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BA4802-8F2F-4A7A-927D-D919235F4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4592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2440" y="164592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40082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2440" y="40082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2D9462-9437-4DAC-BE5D-B2AC256A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4592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8200" y="164592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9560" y="164592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40082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8200" y="40082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9560" y="40082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7B89F3-75A7-450A-AF78-3CF24CA8C1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FCE7C-B5B3-423B-AC4A-D5E8747046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6840" y="164592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B9928-51CD-48D4-897A-0C679EDC1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4592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B252B-9364-48BF-95C0-D9D2548F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4592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2440" y="164592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BA990-A7A5-4441-99D0-D381E269D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96FF1-6F21-4E8A-9BD1-69F34C211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64592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4D80E-9698-4BF4-8E99-CE48E3DCE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6840" y="-100080"/>
            <a:ext cx="8226360" cy="69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8F201-57EE-43CD-8794-80A27C68F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4592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2440" y="164592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6840" y="40082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C4537-3F41-4C05-8409-A2ADE396B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4592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2440" y="164592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2440" y="40082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865EE-038E-42BE-9496-1509C7552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4592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2440" y="164592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6840" y="40082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D34F0-C668-4E44-810C-174C91466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4592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6840" y="40082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E50B1-0805-4F91-B7BD-E9E464867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4592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2440" y="164592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6840" y="40082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2440" y="40082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4E654-CE7C-4455-85D5-3344EBEF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4592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8200" y="164592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19560" y="164592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6840" y="40082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8200" y="40082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19560" y="40082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86262-12D6-4ADA-BFF9-4E418EC353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64592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440" y="164592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D6775-DC29-41FE-ACFF-52C1D5D9F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99E0F-BE6B-4733-94C3-C0736444F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-100080"/>
            <a:ext cx="8226360" cy="69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578E1-DBF7-429E-9CEC-3CD1236B8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64592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440" y="164592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40082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44A52-E53C-4DCA-8C59-2CF9B2005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64592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440" y="164592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2440" y="40082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8A264-A2EB-466D-AE21-973A468EA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64592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440" y="164592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40082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EEEB2-D92A-4C78-868A-BB323F853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152280" y="133200"/>
            <a:ext cx="8829720" cy="6588360"/>
            <a:chOff x="152280" y="133200"/>
            <a:chExt cx="8829720" cy="6588360"/>
          </a:xfrm>
        </p:grpSpPr>
        <p:pic>
          <p:nvPicPr>
            <p:cNvPr id="1" name="Picture 2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29720" cy="658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Text Box 3"/>
            <p:cNvSpPr/>
            <p:nvPr/>
          </p:nvSpPr>
          <p:spPr>
            <a:xfrm>
              <a:off x="392040" y="374760"/>
              <a:ext cx="8353440" cy="610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Text Box 4"/>
          <p:cNvSpPr/>
          <p:nvPr/>
        </p:nvSpPr>
        <p:spPr>
          <a:xfrm>
            <a:off x="1295280" y="6400800"/>
            <a:ext cx="42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5562720" y="6399360"/>
            <a:ext cx="299880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2"/>
          </p:nvPr>
        </p:nvSpPr>
        <p:spPr>
          <a:xfrm>
            <a:off x="8638920" y="6465960"/>
            <a:ext cx="4604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D60ECBD-1371-4B23-AC09-989345556C4A}" type="slidenum"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body"/>
          </p:nvPr>
        </p:nvSpPr>
        <p:spPr>
          <a:xfrm>
            <a:off x="456840" y="164592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343080" indent="-34308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"/>
          <p:cNvGrpSpPr/>
          <p:nvPr/>
        </p:nvGrpSpPr>
        <p:grpSpPr>
          <a:xfrm>
            <a:off x="152280" y="133200"/>
            <a:ext cx="8836200" cy="2527560"/>
            <a:chOff x="152280" y="133200"/>
            <a:chExt cx="8836200" cy="2527560"/>
          </a:xfrm>
        </p:grpSpPr>
        <p:pic>
          <p:nvPicPr>
            <p:cNvPr id="45" name="Picture 2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6200" cy="252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Text Box 3"/>
            <p:cNvSpPr/>
            <p:nvPr/>
          </p:nvSpPr>
          <p:spPr>
            <a:xfrm>
              <a:off x="250920" y="233280"/>
              <a:ext cx="8638920" cy="23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6840" y="164592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343080" indent="-34308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3"/>
          </p:nvPr>
        </p:nvSpPr>
        <p:spPr>
          <a:xfrm>
            <a:off x="5562720" y="6508440"/>
            <a:ext cx="2998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4"/>
          </p:nvPr>
        </p:nvSpPr>
        <p:spPr>
          <a:xfrm>
            <a:off x="8638920" y="6477120"/>
            <a:ext cx="46044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600" spc="-1" strike="noStrike">
                <a:solidFill>
                  <a:srgbClr val="dfe0d4"/>
                </a:solidFill>
                <a:latin typeface="Rockwel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9C4761F-8717-4E3D-B866-038910932AC2}" type="slidenum">
              <a:rPr b="0" lang="en-US" sz="1600" spc="-1" strike="noStrike">
                <a:solidFill>
                  <a:srgbClr val="dfe0d4"/>
                </a:solidFill>
                <a:latin typeface="Rockwel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1600200" y="6508800"/>
            <a:ext cx="3906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1"/>
          <p:cNvGrpSpPr/>
          <p:nvPr/>
        </p:nvGrpSpPr>
        <p:grpSpPr>
          <a:xfrm>
            <a:off x="152280" y="133200"/>
            <a:ext cx="8829720" cy="6588360"/>
            <a:chOff x="152280" y="133200"/>
            <a:chExt cx="8829720" cy="6588360"/>
          </a:xfrm>
        </p:grpSpPr>
        <p:pic>
          <p:nvPicPr>
            <p:cNvPr id="89" name="Picture 2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29720" cy="658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3"/>
            <p:cNvSpPr/>
            <p:nvPr/>
          </p:nvSpPr>
          <p:spPr>
            <a:xfrm>
              <a:off x="392040" y="374760"/>
              <a:ext cx="8353440" cy="610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Rectangle 4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6840" y="164592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343080" indent="-34308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5"/>
          </p:nvPr>
        </p:nvSpPr>
        <p:spPr>
          <a:xfrm>
            <a:off x="5562720" y="6399000"/>
            <a:ext cx="2998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1295280" y="6400800"/>
            <a:ext cx="4211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sldNum" idx="6"/>
          </p:nvPr>
        </p:nvSpPr>
        <p:spPr>
          <a:xfrm>
            <a:off x="8638920" y="6481800"/>
            <a:ext cx="46044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600" spc="-1" strike="noStrike">
                <a:solidFill>
                  <a:srgbClr val="dfe0d4"/>
                </a:solidFill>
                <a:latin typeface="Rockwel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2F94B6B-186C-49FF-936B-ED65BC6EA62D}" type="slidenum">
              <a:rPr b="0" lang="en-US" sz="1600" spc="-1" strike="noStrike">
                <a:solidFill>
                  <a:srgbClr val="dfe0d4"/>
                </a:solidFill>
                <a:latin typeface="Rockwel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213372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24696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L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600" spc="-1" strike="noStrike">
                <a:solidFill>
                  <a:srgbClr val="e7eacb"/>
                </a:solidFill>
                <a:latin typeface="Rockwell"/>
              </a:rPr>
              <a:t>Outil d’évaluation de l’alphabétisation fonctionnelle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3"/>
          <p:cNvSpPr/>
          <p:nvPr/>
        </p:nvSpPr>
        <p:spPr>
          <a:xfrm>
            <a:off x="450720" y="249120"/>
            <a:ext cx="853776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lnSpc>
                <a:spcPct val="10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2890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Alphabétisation fonctionnel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2890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Qualité de l'éducat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2890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Simpl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2890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Rap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600" spc="-1" strike="noStrike">
                <a:solidFill>
                  <a:srgbClr val="e7eacb"/>
                </a:solidFill>
                <a:latin typeface="Rockwell"/>
              </a:rPr>
              <a:t>Pourquoi utiliser cet outil ?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56840" y="1645920"/>
            <a:ext cx="8226360" cy="452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457200" y="1646280"/>
            <a:ext cx="82296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lnSpc>
                <a:spcPct val="10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2890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Etude préliminaire et évalu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2890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Environnements d'apprentissage structuré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2890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Avec un autre outi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636480" indent="-228600">
              <a:lnSpc>
                <a:spcPct val="100000"/>
              </a:lnSpc>
              <a:spcBef>
                <a:spcPts val="400"/>
              </a:spcBef>
              <a:buClr>
                <a:srgbClr val="b0ccb0"/>
              </a:buClr>
              <a:buFont typeface="Rockwell"/>
              <a:buChar char="•"/>
              <a:tabLst>
                <a:tab algn="l" pos="2890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  <a:ea typeface="Microsoft YaHei"/>
              </a:rPr>
              <a:t>Enquête auprès des gardiens d'enf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6480" indent="-228600">
              <a:lnSpc>
                <a:spcPct val="100000"/>
              </a:lnSpc>
              <a:spcBef>
                <a:spcPts val="400"/>
              </a:spcBef>
              <a:buClr>
                <a:srgbClr val="b0ccb0"/>
              </a:buClr>
              <a:buFont typeface="Rockwell"/>
              <a:buChar char="•"/>
              <a:tabLst>
                <a:tab algn="l" pos="2890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  <a:ea typeface="Microsoft YaHei"/>
              </a:rPr>
              <a:t>Enquête sur les comportements sains des jeu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2890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Avec les enfants qui ont terminé le primai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600" spc="-1" strike="noStrike">
                <a:solidFill>
                  <a:srgbClr val="e7eacb"/>
                </a:solidFill>
                <a:latin typeface="Rockwell"/>
              </a:rPr>
              <a:t>Quand l’utiliser ?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457200" y="1646280"/>
            <a:ext cx="82296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lnSpc>
                <a:spcPct val="10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2890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Lettr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2890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Mot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2890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Paragraph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2890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Histoire et compréhension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2890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Texte local et compréhens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2890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2890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2890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600" spc="-1" strike="noStrike">
                <a:solidFill>
                  <a:srgbClr val="e7eacb"/>
                </a:solidFill>
                <a:latin typeface="Rockwell"/>
              </a:rPr>
              <a:t>Qu’est-ce que c’est ?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3" descr=""/>
          <p:cNvPicPr/>
          <p:nvPr/>
        </p:nvPicPr>
        <p:blipFill>
          <a:blip r:embed="rId2"/>
          <a:stretch/>
        </p:blipFill>
        <p:spPr>
          <a:xfrm>
            <a:off x="719280" y="1224000"/>
            <a:ext cx="7705440" cy="44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3" descr=""/>
          <p:cNvPicPr/>
          <p:nvPr/>
        </p:nvPicPr>
        <p:blipFill>
          <a:blip r:embed="rId2"/>
          <a:stretch/>
        </p:blipFill>
        <p:spPr>
          <a:xfrm>
            <a:off x="871560" y="961920"/>
            <a:ext cx="7400880" cy="493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4"/>
          <p:cNvSpPr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lnSpc>
                <a:spcPct val="10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2890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oupure de jour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2890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rospectus d'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2890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oupure de magaz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2890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joutez 3 questions de compréhens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2890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On parle alors d'alphabétisation « fonctionnelle 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600" spc="-1" strike="noStrike">
                <a:solidFill>
                  <a:srgbClr val="e7eacb"/>
                </a:solidFill>
                <a:latin typeface="Rockwell"/>
              </a:rPr>
              <a:t>Supports locaux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08:09:10Z</dcterms:created>
  <dc:creator>Isabelle Carboni</dc:creator>
  <dc:description/>
  <dc:language>en-US</dc:language>
  <cp:lastModifiedBy>jbunnell</cp:lastModifiedBy>
  <dcterms:modified xsi:type="dcterms:W3CDTF">2013-08-01T08:40:46Z</dcterms:modified>
  <cp:revision>14</cp:revision>
  <dc:subject/>
  <dc:title>Functional Literacy Assessment Tool</dc:title>
</cp:coreProperties>
</file>