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50E5-504E-4DF4-89F6-135A3160A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CA68-AFD3-4019-8C95-2CE3078BF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B6907-CBD6-47C3-A188-7801F3DDA6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3707-2E0A-4C6C-BDD7-4505B11CC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D930-7DD3-455A-A5EF-29E87176F6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CA783-61C1-4FD7-827F-538056F3D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B8AA3-2005-4B49-88D0-A6B3136E9D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CA4D0-05B0-4EB3-8258-A9A87E7DD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0533E-EA69-49B4-8002-F1644FF0A5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4BFC0-33E6-4521-BD09-4A03EC7AF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F6A3B-05D1-4733-B795-547D62BB7B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0035E-8C71-4BB1-A283-8068C5DED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48B06-3818-4A0F-A0B4-7AC31E3154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DECF-8C60-4429-A583-606EA2DBA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AE7DD-B94C-42B4-AE23-6997775581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1BCF0-FF63-498B-9F34-37C1F2666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25040-E5B8-489D-BD2E-3F2C8C1FED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C91F4-7190-47B7-A366-B35EC3C40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789A-A85B-4D0C-BCCF-042AB52A8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BCC8-6421-47A7-8203-4D1057BE1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7658-B65F-4ADF-AB65-6172F3636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82F3-183F-48ED-913F-9005F819F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E55B-5165-4E3C-9110-A29AFAE4F1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B1FB-99D8-46A9-AD24-6F8C43EBF9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F7AA-D8A5-4D27-ACB7-1EEB7C217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54BC-6EE5-4A81-A48E-71F953DDE8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75B2-E2ED-454F-B7F3-F258F455EF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3222-96EE-494F-9E07-6C6C95726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A4F4-A4E3-41FB-85B1-E2B6F1BE2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EB91-CBF2-4E1D-8F5B-DA916ECF5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ADD2-73FB-4D8F-A572-FC23CA62F0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986F-E51C-4A40-822A-8DCD11528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89CE-7A35-4F8C-9124-B8D3AFE5A2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22DE-E600-4CFE-A35A-5B61B6AD2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B9D0-C142-402B-B2F4-43ACCAF8F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5E98-F57E-4315-B525-9CA73EE63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4C76-E444-4E41-8703-09492BB67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3439-4D7F-48D5-8B48-9E832DBCD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6094-BBC1-4B1A-BE96-B2C2776D7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63CF-A104-4494-92DD-6C67EB21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9CB4-CC93-4DEB-91F4-009613B8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2887-92D0-441F-886E-6F870F64D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9C365-0C96-44A8-98A0-6220FF7C1B8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2720" y="62528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747E68-7B8E-4B84-BFDA-C6F67557C7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Les enfants apprennent-ils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esurer les résultats éducatif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ment mesurons-nous aujourd'hui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résence à l'éco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Inscription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Achèvement des étud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HYPOTHES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 si les enfants vont à l'école, ils apprennent à lire, écrire et com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877080" y="1989000"/>
            <a:ext cx="754200" cy="1917720"/>
            <a:chOff x="6877080" y="1989000"/>
            <a:chExt cx="754200" cy="1917720"/>
          </a:xfrm>
        </p:grpSpPr>
        <p:pic>
          <p:nvPicPr>
            <p:cNvPr id="117" name="Picture 3" descr=""/>
            <p:cNvPicPr/>
            <p:nvPr/>
          </p:nvPicPr>
          <p:blipFill>
            <a:blip r:embed="rId1"/>
            <a:stretch/>
          </p:blipFill>
          <p:spPr>
            <a:xfrm>
              <a:off x="6877080" y="1989000"/>
              <a:ext cx="75420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877080" y="1989000"/>
              <a:ext cx="75420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179280" y="5877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ANS RESSOURCES D'APPRENTISSAGE SUPPLEMENTAI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ESULTATS EDUCATIFS EN BAIS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Qu'est-ce qui doit changer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388620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Mesurer en priorité l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RESULTATS DE L'APPRENTISS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Compétence la plus élémentair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Indicateur le plus pertin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lecture comme indicateur indirect du niveau d'édu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à voix haut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Confiance plus grand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Facile à évalu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Les performances des enfants à l'écrit sont souvent moins bonn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11280" y="3141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 QUESTIONS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95280" y="1123920"/>
            <a:ext cx="7772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Nath</cp:lastModifiedBy>
  <dcterms:modified xsi:type="dcterms:W3CDTF">2013-03-31T23:58:07Z</dcterms:modified>
  <cp:revision>5</cp:revision>
  <dc:subject/>
  <dc:title>Are children learning?</dc:title>
</cp:coreProperties>
</file>