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til d’évaluation de l’alphabétisation fonctionn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quoi utiliser cet outil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and l’utiliser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’est-ce que c’es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pports loc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BDE9-B9A1-4F01-BA08-ECAF916663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8658-4484-4C51-B08B-0DAC28E6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8D3F-6918-4F18-BB75-B8522872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D5581-4AD9-48F4-ACCA-D86BE24DEC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1BD22-CE82-43CF-BEB8-63A5467A3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2BFB3-52BC-403C-937A-EB078E61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4BE42-7B73-459F-BD1E-78BD753C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1C4DD-3888-4B6A-B149-44668558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970B4-5025-4179-9586-FA19E2A4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255BC-B094-4BD0-8703-6C9FDA91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EF517-A539-4B64-8FC1-014E98AA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0FAD-2B0F-4D85-B70F-C6F5312D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48EC3-2247-4D1E-B1BD-29201093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4FAB5-6849-4755-AD6B-FD60F2FA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FB742-81C6-4EAB-A48E-FA249C3C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E8141-8014-45FE-8843-99F9FB2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A621C-F691-40FE-9D3A-C5E2252F18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DEB3-D7A1-40FF-A5CB-A2D3CF0908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9D58-2209-45FD-829F-0644D683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882F-4CA3-4E31-8E67-D98103BC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E51F-16DC-4E65-B8EC-4235DBCD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F11F-27EC-4C3D-8138-B811B02F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C484-4C5F-4A56-A75F-B5A5A90A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9C8C-5525-4C0A-85D3-1E875E61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2BFD-9D2E-4FF7-9D64-B6E99ED3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D6B1-C908-432D-99BF-12DDD4BF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5972-24C5-44B2-AF2F-6490B5A9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4FBF-52F2-4498-89F0-202AD6C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4DB0-EECD-40FB-9463-54E05B3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D6C5-63C4-44EC-B086-D4F2E02A8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9986-A913-4D3A-95BA-F7A64569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50AA-810F-4895-8FB7-A5C5CCF6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8F42-0C41-44AF-A0E6-58C2CB28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3F1C-859C-4808-BAB1-577BA1B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A993-A79D-45BC-85D6-7ED2312A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322C-DE2F-41C2-A4BD-C4DA2483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52280" y="133200"/>
            <a:ext cx="8829720" cy="6588360"/>
            <a:chOff x="152280" y="133200"/>
            <a:chExt cx="8829720" cy="658836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29720" cy="65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392040" y="374760"/>
              <a:ext cx="8353440" cy="61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Text Box 4"/>
          <p:cNvSpPr/>
          <p:nvPr/>
        </p:nvSpPr>
        <p:spPr>
          <a:xfrm>
            <a:off x="1295280" y="640080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5562720" y="6399360"/>
            <a:ext cx="2998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8638920" y="6465960"/>
            <a:ext cx="4604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38B197-E98E-4D4B-8A27-C2783A871DA9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152280" y="133200"/>
            <a:ext cx="8836200" cy="2527560"/>
            <a:chOff x="152280" y="133200"/>
            <a:chExt cx="8836200" cy="252756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620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50920" y="233280"/>
              <a:ext cx="8638920" cy="23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5562720" y="6508440"/>
            <a:ext cx="2998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638920" y="6477120"/>
            <a:ext cx="460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dfe0d4"/>
                </a:solidFill>
                <a:latin typeface="Rockwel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472709-EED6-4BB8-9DAD-69882AB6A399}" type="slidenum">
              <a:rPr b="0" lang="en-US" sz="1600" spc="-1" strike="noStrike">
                <a:solidFill>
                  <a:srgbClr val="dfe0d4"/>
                </a:solidFill>
                <a:latin typeface="Rockwel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600200" y="6508800"/>
            <a:ext cx="390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"/>
          <p:cNvGrpSpPr/>
          <p:nvPr/>
        </p:nvGrpSpPr>
        <p:grpSpPr>
          <a:xfrm>
            <a:off x="152280" y="133200"/>
            <a:ext cx="8829720" cy="6588360"/>
            <a:chOff x="152280" y="133200"/>
            <a:chExt cx="8829720" cy="6588360"/>
          </a:xfrm>
        </p:grpSpPr>
        <p:pic>
          <p:nvPicPr>
            <p:cNvPr id="89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29720" cy="65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"/>
            <p:cNvSpPr/>
            <p:nvPr/>
          </p:nvSpPr>
          <p:spPr>
            <a:xfrm>
              <a:off x="392040" y="374760"/>
              <a:ext cx="8353440" cy="61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5562720" y="6399000"/>
            <a:ext cx="2998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295280" y="640080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8638920" y="6481800"/>
            <a:ext cx="460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dfe0d4"/>
                </a:solidFill>
                <a:latin typeface="Rockwel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4CE4F6-B04C-459F-B223-DB150B89D054}" type="slidenum">
              <a:rPr b="0" lang="en-US" sz="1600" spc="-1" strike="noStrike">
                <a:solidFill>
                  <a:srgbClr val="dfe0d4"/>
                </a:solidFill>
                <a:latin typeface="Rockwel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13372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Outil d’évaluation de l’alphabétisation fonctionnell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450720" y="249120"/>
            <a:ext cx="8537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lphabétisation fonctionnel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Qualité de l'éduc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im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Rap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Pourquoi utiliser cet outil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6840" y="1645920"/>
            <a:ext cx="82263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57200" y="16462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tude préliminaire et é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nvironnements d'apprentissage structuré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Avec un autre out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Rockwell"/>
              <a:buChar char="•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  <a:ea typeface="Microsoft YaHei"/>
              </a:rPr>
              <a:t>Enquête auprès des gardiens d'enf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Rockwell"/>
              <a:buChar char="•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  <a:ea typeface="Microsoft YaHei"/>
              </a:rPr>
              <a:t>Enquête sur les comportements sains des je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Avec les enfants qui ont terminé le primai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Quand l’utiliser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457200" y="164628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Lett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Mo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Paragrap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Histoire et compréhen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exte local et compréhen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Qu’est-ce que c’est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719280" y="1224000"/>
            <a:ext cx="770544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871560" y="961920"/>
            <a:ext cx="7400880" cy="49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pure de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spectus d'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pure de magaz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joutez 3 questions de compréhen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parle alors d'alphabétisation « fonctionnelle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Supports locaux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8:09:10Z</dcterms:created>
  <dc:creator>Isabelle Carboni</dc:creator>
  <dc:description/>
  <dc:language>en-US</dc:language>
  <cp:lastModifiedBy>jbunnell</cp:lastModifiedBy>
  <dcterms:modified xsi:type="dcterms:W3CDTF">2013-08-01T08:40:46Z</dcterms:modified>
  <cp:revision>14</cp:revision>
  <dc:subject/>
  <dc:title>Functional Literacy Assessment Tool</dc:title>
</cp:coreProperties>
</file>